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E293-28A8-4481-A7BB-06237F56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551-0581-4B8D-B013-6FC0F87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E2D-88C4-444B-9CD5-9360A810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75B-186C-4075-8694-F46CB781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DC13-4028-4F04-8B41-00944800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4C66-7277-496C-855E-8E38DFD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5F6-9207-4E2E-81C2-9F5F32E2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DC93-5042-4E99-939D-F815FA84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973-8509-44A3-807B-F2EF3D7D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61A-AA3B-432C-AC65-5ED58323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7E7-6DF7-410E-93B5-DB02ED0A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E48-CA4D-45D5-8827-E1504B1E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CD2F-0763-4ADE-9EB7-8F13CC3E0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ntro.ppt" TargetMode="External"/><Relationship Id="rId2" Type="http://schemas.openxmlformats.org/officeDocument/2006/relationships/hyperlink" Target="file:///intro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295280"/>
            <a:ext cx="923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Quels modèles pour la génétique quantitativ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5080" y="4343400"/>
            <a:ext cx="75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Christine Dillmann et Frédéric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 (</a:t>
            </a:r>
            <a:r>
              <a:rPr b="0" lang="fr-FR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intro.</a:t>
            </a:r>
            <a:r>
              <a:rPr b="0" lang="fr-FR" sz="24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pp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génétique statistique (modeles.p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terminisme génétique: inférences expé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que nous apprend la détection de QTL (QTL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e que nous apprend la sélection assistée par marqueurs (sam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 de gènes et beaucoup d’épist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modèle métabolique (met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aucoup de gènes et peu d’épistasie :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modèle addi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ructuration du polymorphisme sélectionné (agreg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tations et sélection (midipile.p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spectives (conclusion.p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merciements (merci.p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b2b2b2"/>
                </a:solidFill>
                <a:latin typeface="Arial"/>
              </a:rPr>
              <a:t>Ce soir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80" y="76320"/>
            <a:ext cx="65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Quels modèles pour la génétique quantitati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15:25:42Z</dcterms:created>
  <dc:creator>fred</dc:creator>
  <dc:description/>
  <dc:language>en-US</dc:language>
  <cp:lastModifiedBy>Christine Dillmann</cp:lastModifiedBy>
  <dcterms:modified xsi:type="dcterms:W3CDTF">2002-07-04T13:10:40Z</dcterms:modified>
  <cp:revision>9</cp:revision>
  <dc:subject/>
  <dc:title>Présentation PowerPoint</dc:title>
</cp:coreProperties>
</file>