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2DD-1AE5-4BF7-BBA2-1F6D884A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DEF-2ADE-480B-8CCD-D8846808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081-795B-487F-8738-491186CD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2FF-4226-480C-8D95-9798F29F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E4E-3EDC-47FE-B4AA-F46805CA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2A5-DBA1-4C8F-BCED-8716F891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FDD-F7F2-4FC3-9F7A-26B9FB8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4DA-2E82-4DF0-BD7B-8916682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788-99CD-4366-B3E2-039C535B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A0D-75F1-4EBC-B212-EA21EA0F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950-C759-4067-A765-36C2F7E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4A2-9ED6-4C9E-A052-63315FE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D7D0-5BB3-44FF-9B78-329ACB685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6440" y="2803680"/>
            <a:ext cx="900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aptation d’une popul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à un optimum loi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6094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olymorphisme est régénéré (mut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freqal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370640" cy="56196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des valeurs allé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29000" y="586728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6248520"/>
            <a:ext cx="202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èles init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585144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1480" y="62485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840" y="12952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37240" y="26020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Disparition rapide des allèles init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reqal3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362720" cy="5611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des valeurs allé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429000" y="586728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62485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800600" y="585144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480" y="62485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840" y="12952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37240" y="260208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xation de mutations favor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freqal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362720" cy="5611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des valeurs allél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429000" y="586728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62485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800600" y="585144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480" y="62485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840" y="12952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1295280"/>
            <a:ext cx="0" cy="434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8000" y="571500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èles fix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2193840"/>
            <a:ext cx="266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Distribution indépendante de la distribution des effets des 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La plupart des locus polymorphes sont quasi-fix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des effets des Q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evol.r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86760" cy="5681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30000" y="1905120"/>
            <a:ext cx="564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tribution leptokur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ques gènes à effet fort à chaque géné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5410080"/>
            <a:ext cx="228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99072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grand nombre de gènes interviennent au cours de l’adaptation d’une population à un nouvel optimum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mais pas tous en même temp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99"/>
                </a:solidFill>
                <a:latin typeface="Arial"/>
              </a:rPr>
              <a:t>Distribution des valeurs alléliqu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imodale, dissymétrique durant la ph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valeur moyenne des allèles augmente au cours du temps. Tout se passe comme si les mutations « visibles » incrémentaient ou décrémentaient la valeur des allèles exi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99"/>
                </a:solidFill>
                <a:latin typeface="Arial"/>
              </a:rPr>
              <a:t>Polymorphisme inter-locu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stribution leptokurtique des effets des Q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 chaque génération, seuls quelques locus expliquent la plus grande partie de la variance géné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90720"/>
            <a:ext cx="9144000" cy="14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art de variance génétique créée par la mutation à chaque génération (en unité de variance environnementale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lt;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&lt; 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ôle des mutations dans l’évolution des caractères quantita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94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Lõpez &amp; Lõpez-Fanjul, 1993; McKay et al, 1994; Keightley, 1998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6688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Dillmann, Marie &amp; Charcosset,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5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ix années de sélection divergente pour la précocité dans des lignées pures de maïs, réponse corrélative sur la hauteur des pl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hf252-1998" descr=""/>
          <p:cNvPicPr/>
          <p:nvPr/>
        </p:nvPicPr>
        <p:blipFill>
          <a:blip r:embed="rId1"/>
          <a:stretch/>
        </p:blipFill>
        <p:spPr>
          <a:xfrm>
            <a:off x="77760" y="3886200"/>
            <a:ext cx="2741760" cy="2741760"/>
          </a:xfrm>
          <a:prstGeom prst="rect">
            <a:avLst/>
          </a:prstGeom>
          <a:ln w="0">
            <a:noFill/>
          </a:ln>
        </p:spPr>
      </p:pic>
      <p:pic>
        <p:nvPicPr>
          <p:cNvPr id="49" name="hf252-1999" descr=""/>
          <p:cNvPicPr/>
          <p:nvPr/>
        </p:nvPicPr>
        <p:blipFill>
          <a:blip r:embed="rId2"/>
          <a:stretch/>
        </p:blipFill>
        <p:spPr>
          <a:xfrm>
            <a:off x="2820960" y="3887640"/>
            <a:ext cx="2741760" cy="2741760"/>
          </a:xfrm>
          <a:prstGeom prst="rect">
            <a:avLst/>
          </a:prstGeom>
          <a:ln w="0">
            <a:noFill/>
          </a:ln>
        </p:spPr>
      </p:pic>
      <p:pic>
        <p:nvPicPr>
          <p:cNvPr id="50" name="hf252-2000" descr=""/>
          <p:cNvPicPr/>
          <p:nvPr/>
        </p:nvPicPr>
        <p:blipFill>
          <a:blip r:embed="rId3"/>
          <a:stretch/>
        </p:blipFill>
        <p:spPr>
          <a:xfrm>
            <a:off x="5791320" y="3887640"/>
            <a:ext cx="27414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à un optimum loin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ngterm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05320" y="4800600"/>
            <a:ext cx="39621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971800"/>
            <a:ext cx="2819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56386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512136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Population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9051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676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Opt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31440" y="4994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élection direction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72760" y="339408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einte de l’opt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4720" y="1523880"/>
            <a:ext cx="495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quilibre Mutation / Sélection / Dé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11480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2438280"/>
            <a:ext cx="380880" cy="609840"/>
          </a:xfrm>
          <a:prstGeom prst="upArrow">
            <a:avLst>
              <a:gd name="adj1" fmla="val 50000"/>
              <a:gd name="adj2" fmla="val 40028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quilibre dérive / sélection / mu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90720"/>
            <a:ext cx="923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Quelle est la composition génétique d’une population à l’équilib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éséquilibres de li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istribution des valeurs alléliques des locus fixés, des locu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olymor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400" spc="-1" strike="noStrike">
                <a:solidFill>
                  <a:srgbClr val="ff0000"/>
                </a:solidFill>
                <a:latin typeface="Arial"/>
              </a:rPr>
              <a:t>L’histoire d’une population a-t-elle une influence su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a composition génétique à l’équilib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a façon d’atteindre l’équilib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b2b2b2"/>
                </a:solidFill>
                <a:latin typeface="Arial"/>
              </a:rPr>
              <a:t>Sa probabilité d’atteindre l’équilib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543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élection pour un optimum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a valeur sélective d’un individu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u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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= exp[-(P</a:t>
            </a:r>
            <a:r>
              <a:rPr b="0" lang="fr-FR" sz="24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o)²/(2s²)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ù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=50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st la valeur de l’optimum, V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s² l’intensité de la sélection, et P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 phenotype de l’individu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mètres génétiques 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0 locu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ur 10 chromosomes / 100 locus sur 1 chromo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initiale des valeurs des allèle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(0,4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/ Constante (pas de polymorphis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ux de mutation 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10</a:t>
            </a:r>
            <a:r>
              <a:rPr b="0" lang="fr-FR" sz="20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-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des effets des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mutations </a:t>
            </a:r>
            <a:r>
              <a:rPr b="0" lang="fr-FR" sz="2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0,4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éfléch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ille des populations 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 = 200 / N = 3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3phases1" descr=""/>
          <p:cNvPicPr/>
          <p:nvPr/>
        </p:nvPicPr>
        <p:blipFill>
          <a:blip r:embed="rId1"/>
          <a:stretch/>
        </p:blipFill>
        <p:spPr>
          <a:xfrm>
            <a:off x="453960" y="1143000"/>
            <a:ext cx="406548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592240" y="1612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Ph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79840" y="2727360"/>
            <a:ext cx="466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éponse à la sélection atteint un plateau ap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olymorphisme initial est rapidement per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276720"/>
            <a:ext cx="335268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5943600"/>
            <a:ext cx="327636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92240" y="1612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79840" y="2209680"/>
            <a:ext cx="466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ponse linéaire à la sélection grâce à la fixation rapide de nouvelles mu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ble polymorphis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variance génétique durant la phase 2 est indépendante des conditions init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urée de la phase 2 dépend de la taille de la population et de l’intensité de la sé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3phases2" descr=""/>
          <p:cNvPicPr/>
          <p:nvPr/>
        </p:nvPicPr>
        <p:blipFill>
          <a:blip r:embed="rId1"/>
          <a:stretch/>
        </p:blipFill>
        <p:spPr>
          <a:xfrm>
            <a:off x="527040" y="1143000"/>
            <a:ext cx="4044960" cy="5307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90720" y="3276720"/>
            <a:ext cx="22860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3276720"/>
            <a:ext cx="3124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943600"/>
            <a:ext cx="22860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5943600"/>
            <a:ext cx="312408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92240" y="1612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Phas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79840" y="2727360"/>
            <a:ext cx="4511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tteinte de l’équilib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tation / sélection / dér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vitesse d’atteinte de l’équilibre n’est pas la même pour les différents paramètres (moyenne, variance génétique, distribution des valeurs alléliq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3phases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4044960" cy="5307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3276720"/>
            <a:ext cx="22860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32767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276720"/>
            <a:ext cx="2895480" cy="0"/>
          </a:xfrm>
          <a:prstGeom prst="line">
            <a:avLst/>
          </a:prstGeom>
          <a:ln w="28440">
            <a:solidFill>
              <a:srgbClr val="cc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5943600"/>
            <a:ext cx="228600" cy="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594360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5943600"/>
            <a:ext cx="2819520" cy="0"/>
          </a:xfrm>
          <a:prstGeom prst="line">
            <a:avLst/>
          </a:prstGeom>
          <a:ln w="28440">
            <a:solidFill>
              <a:srgbClr val="cc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39600"/>
            <a:ext cx="923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d’une population à un optimum lointai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6440" y="1600200"/>
            <a:ext cx="900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 populations s’éloignent de plusieurs unités d’écart-type de leur valeur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 allèles présents dans la population de départ ne contribuent plus à l’adaptation au delà d’une vingtaine de gén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 population initiale n’a pas d’influence sur la composition génétique de la population à l’équi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’adaptation se produit avec, à chaque génération, u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faible nombre de locus polymorph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une diza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23:40:56Z</dcterms:created>
  <dc:creator>christine</dc:creator>
  <dc:description/>
  <dc:language>en-US</dc:language>
  <cp:lastModifiedBy>fred</cp:lastModifiedBy>
  <dcterms:modified xsi:type="dcterms:W3CDTF">2002-06-29T01:58:51Z</dcterms:modified>
  <cp:revision>68</cp:revision>
  <dc:subject/>
  <dc:title>Présentation PowerPoint</dc:title>
</cp:coreProperties>
</file>