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0DE-E71F-4B1A-A192-E3E74CCF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F12-038C-4BE7-843C-7A217988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1C8-EEB3-46D7-9EA6-4C38FE72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9A5-7EAE-4D16-8854-D45A32DB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CC1-1028-4415-AA6C-E57D4C95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521-A440-42F7-9276-E745B6E2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65FA-0AAA-4613-8B03-30AFDD90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0840-75D1-4B79-9208-D482F094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371-A8DD-4270-A777-16C8D795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BECC-52E6-4B5C-97D2-14118568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16CA-8B4C-434E-9E5E-F4DBB66C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7F5-F44D-4873-B34F-F0DB15E7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4039-79BD-4B73-BEBB-66B4AEE0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AUCOUP de gènes et PEU d’épist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èle additif multi-l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manu-agreg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rot="16200000">
            <a:off x="-1846440" y="2951280"/>
            <a:ext cx="49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NS   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5920200" y="2837160"/>
            <a:ext cx="49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EC   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304920"/>
            <a:ext cx="2362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s entre l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épartition aléatoire du polymorph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partition observée sous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533412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e d’agrégation au cours du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57464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-10152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3251160"/>
            <a:ext cx="1523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574640"/>
            <a:ext cx="1524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-101520"/>
            <a:ext cx="1524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5880" y="325116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=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ation du polymorphisme sélectionn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urt terme, agrégation transitoire du polymorphisme dans un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e en sélection artificielle (S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ble impact sur le maintien du polymorphisme avec mutation-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ons successives de mutations +/- indépend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ts sur la divergence entre population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de l’histoire sélective des populations sur l’architecture apparente des caractères quantita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6"/>
            <a:endCxn id="128" idx="1"/>
          </p:cNvCxnSpPr>
          <p:nvPr/>
        </p:nvCxnSpPr>
        <p:spPr>
          <a:xfrm flipV="1">
            <a:off x="2050560" y="1739160"/>
            <a:ext cx="1810440" cy="9248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7" idx="6"/>
            <a:endCxn id="130" idx="1"/>
          </p:cNvCxnSpPr>
          <p:nvPr/>
        </p:nvCxnSpPr>
        <p:spPr>
          <a:xfrm flipV="1">
            <a:off x="2050560" y="2188440"/>
            <a:ext cx="1810440" cy="475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7" idx="6"/>
            <a:endCxn id="132" idx="1"/>
          </p:cNvCxnSpPr>
          <p:nvPr/>
        </p:nvCxnSpPr>
        <p:spPr>
          <a:xfrm>
            <a:off x="2050560" y="2664000"/>
            <a:ext cx="1810440" cy="7941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33" name=""/>
          <p:cNvGrpSpPr/>
          <p:nvPr/>
        </p:nvGrpSpPr>
        <p:grpSpPr>
          <a:xfrm>
            <a:off x="533520" y="1555920"/>
            <a:ext cx="7491960" cy="2085840"/>
            <a:chOff x="533520" y="1555920"/>
            <a:chExt cx="7491960" cy="2085840"/>
          </a:xfrm>
        </p:grpSpPr>
        <p:sp>
          <p:nvSpPr>
            <p:cNvPr id="127" name=""/>
            <p:cNvSpPr/>
            <p:nvPr/>
          </p:nvSpPr>
          <p:spPr>
            <a:xfrm>
              <a:off x="533520" y="2108160"/>
              <a:ext cx="1517400" cy="1111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863160" y="1555920"/>
              <a:ext cx="1142280" cy="817200"/>
              <a:chOff x="3863160" y="1555920"/>
              <a:chExt cx="1142280" cy="817200"/>
            </a:xfrm>
          </p:grpSpPr>
          <p:sp>
            <p:nvSpPr>
              <p:cNvPr id="128" name=""/>
              <p:cNvSpPr/>
              <p:nvPr/>
            </p:nvSpPr>
            <p:spPr>
              <a:xfrm>
                <a:off x="3863160" y="1555920"/>
                <a:ext cx="11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gnée H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63520" y="2004840"/>
                <a:ext cx="109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ignée 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3863880" y="3273480"/>
              <a:ext cx="10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gnée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05160" y="2505240"/>
              <a:ext cx="9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él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72720" y="1609560"/>
              <a:ext cx="1652760" cy="6426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rois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étection QT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2720" y="2820960"/>
              <a:ext cx="1652760" cy="6426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Crois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Détection QT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8" name=""/>
          <p:cNvCxnSpPr>
            <a:stCxn id="128" idx="3"/>
            <a:endCxn id="136" idx="1"/>
          </p:cNvCxnSpPr>
          <p:nvPr/>
        </p:nvCxnSpPr>
        <p:spPr>
          <a:xfrm>
            <a:off x="5008680" y="1739880"/>
            <a:ext cx="1357920" cy="19584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0" idx="3"/>
            <a:endCxn id="136" idx="1"/>
          </p:cNvCxnSpPr>
          <p:nvPr/>
        </p:nvCxnSpPr>
        <p:spPr>
          <a:xfrm flipV="1">
            <a:off x="4959000" y="1934640"/>
            <a:ext cx="1407240" cy="25488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2" idx="3"/>
            <a:endCxn id="137" idx="1"/>
          </p:cNvCxnSpPr>
          <p:nvPr/>
        </p:nvCxnSpPr>
        <p:spPr>
          <a:xfrm flipV="1">
            <a:off x="4920840" y="3146040"/>
            <a:ext cx="1445040" cy="31176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0" idx="3"/>
            <a:endCxn id="137" idx="1"/>
          </p:cNvCxnSpPr>
          <p:nvPr/>
        </p:nvCxnSpPr>
        <p:spPr>
          <a:xfrm>
            <a:off x="4959000" y="2188800"/>
            <a:ext cx="1407240" cy="957960"/>
          </a:xfrm>
          <a:prstGeom prst="straightConnector1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</p:cxnSp>
      <p:pic>
        <p:nvPicPr>
          <p:cNvPr id="142" name="figHH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4114800" cy="2905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46280" y="4307040"/>
            <a:ext cx="260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ivergence entre lignées H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960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expériences de réponse à long terme à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mais1" descr=""/>
          <p:cNvPicPr/>
          <p:nvPr/>
        </p:nvPicPr>
        <p:blipFill>
          <a:blip r:embed="rId1"/>
          <a:stretch/>
        </p:blipFill>
        <p:spPr>
          <a:xfrm>
            <a:off x="1185840" y="609480"/>
            <a:ext cx="6434280" cy="501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33720" y="5943600"/>
            <a:ext cx="678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« Illinois Long Term Selection Corn Experiment »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udley &amp; lambert, 19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 polymorphisme permettant une réponse soutenue à la sélection e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odèle infinitési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é (link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énéré régulièrement (mu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psel" descr=""/>
          <p:cNvPicPr/>
          <p:nvPr/>
        </p:nvPicPr>
        <p:blipFill>
          <a:blip r:embed="rId1"/>
          <a:stretch/>
        </p:blipFill>
        <p:spPr>
          <a:xfrm>
            <a:off x="0" y="533520"/>
            <a:ext cx="6858000" cy="6324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98240" y="373392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+ dérive gén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2743200"/>
            <a:ext cx="1981080" cy="1447920"/>
          </a:xfrm>
          <a:custGeom>
            <a:avLst/>
            <a:gdLst/>
            <a:ahLst/>
            <a:rect l="l" t="t" r="r" b="b"/>
            <a:pathLst>
              <a:path w="744" h="576">
                <a:moveTo>
                  <a:pt x="0" y="0"/>
                </a:moveTo>
                <a:cubicBezTo>
                  <a:pt x="252" y="72"/>
                  <a:pt x="504" y="144"/>
                  <a:pt x="624" y="240"/>
                </a:cubicBezTo>
                <a:cubicBezTo>
                  <a:pt x="744" y="336"/>
                  <a:pt x="704" y="520"/>
                  <a:pt x="720" y="576"/>
                </a:cubicBezTo>
              </a:path>
            </a:pathLst>
          </a:custGeom>
          <a:noFill/>
          <a:ln w="34920">
            <a:solidFill>
              <a:srgbClr val="99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562720" y="2514600"/>
            <a:ext cx="304560" cy="1676520"/>
          </a:xfrm>
          <a:custGeom>
            <a:avLst/>
            <a:gdLst/>
            <a:ahLst/>
            <a:rect l="l" t="t" r="r" b="b"/>
            <a:pathLst>
              <a:path w="96" h="48">
                <a:moveTo>
                  <a:pt x="0" y="48"/>
                </a:moveTo>
                <a:cubicBezTo>
                  <a:pt x="40" y="28"/>
                  <a:pt x="80" y="8"/>
                  <a:pt x="96" y="0"/>
                </a:cubicBezTo>
              </a:path>
            </a:pathLst>
          </a:custGeom>
          <a:noFill/>
          <a:ln w="34920">
            <a:solidFill>
              <a:srgbClr val="33cc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58200" y="259092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+ m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07040" y="4267080"/>
            <a:ext cx="431640" cy="381240"/>
          </a:xfrm>
          <a:custGeom>
            <a:avLst/>
            <a:gdLst/>
            <a:ahLst/>
            <a:rect l="l" t="t" r="r" b="b"/>
            <a:pathLst>
              <a:path w="224" h="240">
                <a:moveTo>
                  <a:pt x="224" y="0"/>
                </a:moveTo>
                <a:cubicBezTo>
                  <a:pt x="144" y="52"/>
                  <a:pt x="64" y="104"/>
                  <a:pt x="32" y="144"/>
                </a:cubicBezTo>
                <a:cubicBezTo>
                  <a:pt x="0" y="184"/>
                  <a:pt x="32" y="224"/>
                  <a:pt x="32" y="240"/>
                </a:cubicBezTo>
              </a:path>
            </a:pathLst>
          </a:custGeom>
          <a:noFill/>
          <a:ln w="34920">
            <a:solidFill>
              <a:srgbClr val="9966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120" y="457200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Times New Roman"/>
              </a:rPr>
              <a:t>+ lin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5960" y="34290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Yoo, 19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7339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360" y="650700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’après les données de Yoo, 19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9720" y="61866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éné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-852120" y="33526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éponse à la sé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960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modèles de réponse à long terme à la sé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681000">
            <a:off x="1711080" y="2330280"/>
            <a:ext cx="35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èle infinitésimal populations infin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23880" y="88272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isher, 19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73960" y="3886200"/>
            <a:ext cx="159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Robertson, 19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06440" y="1447920"/>
            <a:ext cx="235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cc33"/>
                </a:solidFill>
                <a:latin typeface="Times New Roman"/>
              </a:rPr>
              <a:t>Hill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cc33"/>
                </a:solidFill>
                <a:latin typeface="Times New Roman"/>
              </a:rPr>
              <a:t>Weber and Diggins, 19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cc33"/>
                </a:solidFill>
                <a:latin typeface="Times New Roman"/>
              </a:rPr>
              <a:t>Lynch and Walsh, 200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09320" y="4419720"/>
            <a:ext cx="145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66ff"/>
                </a:solidFill>
                <a:latin typeface="Times New Roman"/>
              </a:rPr>
              <a:t>Bulmer, 19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66ff"/>
                </a:solidFill>
                <a:latin typeface="Times New Roman"/>
              </a:rPr>
              <a:t>Chevalet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36640" y="2541600"/>
            <a:ext cx="7178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ent est structuré le polymorphisme sélectionné le long du géno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erve de polymorphisme dans des segments à forte densité de gèn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à court terme / dans une populatio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à long ter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hèse Emmanuelle Della-Chi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66688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6668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lymorphisme est caché (linkag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486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ffet Bulmer (197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80" y="249876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X1+X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589560" y="2278080"/>
            <a:ext cx="1381680" cy="838080"/>
            <a:chOff x="3589560" y="2278080"/>
            <a:chExt cx="1381680" cy="838080"/>
          </a:xfrm>
        </p:grpSpPr>
        <p:sp>
          <p:nvSpPr>
            <p:cNvPr id="74" name=""/>
            <p:cNvSpPr/>
            <p:nvPr/>
          </p:nvSpPr>
          <p:spPr>
            <a:xfrm>
              <a:off x="3703680" y="273528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89560" y="2278080"/>
              <a:ext cx="13816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éle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454400" y="1600200"/>
            <a:ext cx="2388240" cy="2124000"/>
            <a:chOff x="1454400" y="1600200"/>
            <a:chExt cx="2388240" cy="2124000"/>
          </a:xfrm>
        </p:grpSpPr>
        <p:grpSp>
          <p:nvGrpSpPr>
            <p:cNvPr id="77" name=""/>
            <p:cNvGrpSpPr/>
            <p:nvPr/>
          </p:nvGrpSpPr>
          <p:grpSpPr>
            <a:xfrm>
              <a:off x="1454400" y="1600200"/>
              <a:ext cx="2388240" cy="2124000"/>
              <a:chOff x="1454400" y="1600200"/>
              <a:chExt cx="2388240" cy="212400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1666800" y="1908360"/>
                <a:ext cx="1675800" cy="1676160"/>
                <a:chOff x="1666800" y="1908360"/>
                <a:chExt cx="1675800" cy="1676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819080" y="2136600"/>
                  <a:ext cx="1294560" cy="129528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1666800" y="1908360"/>
                  <a:ext cx="0" cy="167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666800" y="3584520"/>
                  <a:ext cx="1675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>
                <a:off x="1454400" y="160020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382920" y="335592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1981080" y="2133720"/>
              <a:ext cx="1219320" cy="1218960"/>
            </a:xfrm>
            <a:prstGeom prst="line">
              <a:avLst/>
            </a:prstGeom>
            <a:ln w="2844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908720" y="175248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=seu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72000" y="2147760"/>
            <a:ext cx="1295640" cy="129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07320" y="1611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35840" y="33670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2286000"/>
            <a:ext cx="914400" cy="9144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711400">
            <a:off x="5063760" y="2568600"/>
            <a:ext cx="154008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319720" y="19188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19720" y="35956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715000" y="1866960"/>
            <a:ext cx="1372320" cy="1410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7128360" y="2498760"/>
            <a:ext cx="178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Cov(X1,X2)&l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9560" y="4202280"/>
            <a:ext cx="2864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= G + E =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5029200"/>
            <a:ext cx="731520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r(G) =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r(X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v(X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Var(G)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=      Vg       +      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C                       (C&lt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variance disponible pour la sélection est 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réd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371600" y="200160"/>
          <a:ext cx="6864480" cy="665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0160"/>
                    <a:ext cx="6864480" cy="66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74840" y="3301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éséquilibre de liaison entre paires de l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104400" y="4206960"/>
            <a:ext cx="20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fortemen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gatif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us pro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880" y="787320"/>
            <a:ext cx="21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m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ement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égatif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us éloig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t Hill-Robertson (19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666880"/>
            <a:ext cx="320040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rive génétiq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ais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élection des allèles favo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3429000"/>
            <a:ext cx="1295280" cy="685800"/>
          </a:xfrm>
          <a:prstGeom prst="rightArrow">
            <a:avLst>
              <a:gd name="adj1" fmla="val 50000"/>
              <a:gd name="adj2" fmla="val 472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2933640"/>
            <a:ext cx="28958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mentation  de la probabilité de fixation des allèles défavor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05200" y="457200"/>
            <a:ext cx="3571920" cy="574344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136440" y="192240"/>
            <a:ext cx="25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combinaison restaure la variance « caché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114800"/>
            <a:ext cx="25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i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Symbol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71680" y="6389640"/>
            <a:ext cx="485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Hospital &amp; Chevalet, Genetical Research, 19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20:37:53Z</dcterms:created>
  <dc:creator>fred</dc:creator>
  <dc:description/>
  <dc:language>en-US</dc:language>
  <cp:lastModifiedBy>fred</cp:lastModifiedBy>
  <dcterms:modified xsi:type="dcterms:W3CDTF">2002-06-29T01:38:57Z</dcterms:modified>
  <cp:revision>24</cp:revision>
  <dc:subject/>
  <dc:title>BEAUCOUP de gènes et PEU d’épistasie </dc:title>
</cp:coreProperties>
</file>