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262-BDD3-4BCB-AE5D-0F6002D0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E42-EBB8-4B65-9B79-F396E5DC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421B-D2A7-4843-A564-CEC451AB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2B7-1ACB-4BAE-8A32-951A61C6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92F-0C1C-4946-9F59-CBBD2845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802-6A9E-483A-84A4-BEDFB0F0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182-7556-438D-86D3-B3C7B87E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8C9-1997-446B-B29A-3784A9C1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EAB-6A36-424A-AE3C-16B3CAF0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A56-58C4-4F41-B0FB-EDA6A16E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4B2-269E-4F3E-965A-9A4DC47F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78F-C717-48B5-A9CA-8FF5F046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E0ED-F792-4EBB-8CFC-1AA7D76F9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9600"/>
            <a:ext cx="92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génétique statist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209680"/>
            <a:ext cx="7162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rit de façon statistique la composition génétique d’un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’intéresse à la variation du phé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 fait pas d’hypothèses sur le déterminisme génétique des caractères étud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1_bar" descr=""/>
          <p:cNvPicPr/>
          <p:nvPr/>
        </p:nvPicPr>
        <p:blipFill>
          <a:blip r:embed="rId1"/>
          <a:stretch/>
        </p:blipFill>
        <p:spPr>
          <a:xfrm>
            <a:off x="547560" y="2376360"/>
            <a:ext cx="2195640" cy="2195640"/>
          </a:xfrm>
          <a:prstGeom prst="rect">
            <a:avLst/>
          </a:prstGeom>
          <a:ln w="0">
            <a:noFill/>
          </a:ln>
        </p:spPr>
      </p:pic>
      <p:pic>
        <p:nvPicPr>
          <p:cNvPr id="94" name="p1_eff" descr=""/>
          <p:cNvPicPr/>
          <p:nvPr/>
        </p:nvPicPr>
        <p:blipFill>
          <a:blip r:embed="rId2"/>
          <a:stretch/>
        </p:blipFill>
        <p:spPr>
          <a:xfrm>
            <a:off x="3200400" y="6858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72640" y="5257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1) =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-988920" y="3203280"/>
            <a:ext cx="280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équences génotyp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èle statistique de décomposition de la valeur phénotyp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 additif d’un all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équence : distribution continue des valeurs génétiques dans un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inom_k1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équence : distribution continue des valeurs génétiques dans un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inom_k2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équence : distribution continue des valeurs génétiques dans un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inom_k3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équence : distribution continue des valeurs génétiques dans un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inom_k4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équence : distribution continue des valeurs génétiques dans un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binom_k5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équence : distribution continue des valeurs génétiques dans un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inom_k6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équence : distribution continue des valeurs génétiques dans un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inom_k7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équence : distribution continue des valeurs génétiques dans un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inom_k8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équence : distribution continue des valeurs génétiques dans un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binom_k9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9600"/>
            <a:ext cx="92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èle statistique de décomposition de la valeur phénotyp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17680" y="1677960"/>
            <a:ext cx="550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 = G + E = A + D + 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0000" y="289548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 addi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5121360"/>
            <a:ext cx="816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cc33"/>
                </a:solidFill>
                <a:latin typeface="Arial"/>
              </a:rPr>
              <a:t>Effet additif d’un allèle Ai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= meilleur prédicteur linéaire de la valeur de l’allèle connaissant le gé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15640" y="350532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idu d’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2960" y="289548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 du mili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580920" y="244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5181480" y="244008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05720" y="236376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équence : distribution continue des valeurs génétiques dans un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binom_k10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équence : distribution continue des valeurs génétiques dans un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inom_k10b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o1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39600"/>
            <a:ext cx="92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égression parent-enfant : exemple de la taille chez l’ho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 parent transmet en espérance à ses descendants la moitié de ses effets addi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68680" y="563868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 = G + E = A + D +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40320" y="68580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(Atlan et 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o2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9600"/>
            <a:ext cx="92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égression parent-enf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48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pente de la droite de régression parent-enfant est l’héritabilité du caractè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7720" y="585144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 = G + E = A + D + 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2057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55720" y="1487520"/>
            <a:ext cx="1352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égression parent-enfant et la réponse à une génération de sé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rh2s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352680" y="35053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2819520"/>
            <a:ext cx="0" cy="25905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5867280"/>
            <a:ext cx="21337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-571320" y="3390840"/>
            <a:ext cx="2133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5562720"/>
            <a:ext cx="914400" cy="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819520"/>
            <a:ext cx="0" cy="685800"/>
          </a:xfrm>
          <a:prstGeom prst="line">
            <a:avLst/>
          </a:prstGeom>
          <a:ln w="507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3080" y="5562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420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65520" y="3733920"/>
            <a:ext cx="216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3333cc"/>
                </a:solidFill>
                <a:latin typeface="Arial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3333cc"/>
                </a:solidFill>
                <a:latin typeface="Arial"/>
              </a:rPr>
              <a:t>Breeder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3333cc"/>
                </a:solidFill>
                <a:latin typeface="Arial"/>
              </a:rPr>
              <a:t>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21700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65160" y="1371600"/>
            <a:ext cx="1352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026040" y="1287720"/>
            <a:ext cx="1206720" cy="93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11840" y="2895480"/>
            <a:ext cx="1476000" cy="5814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=h</a:t>
            </a:r>
            <a:r>
              <a:rPr b="1" i="1" lang="en-US" sz="3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.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43000" y="2819520"/>
            <a:ext cx="312408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5943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5791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ents sélectionn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-684360" y="297036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end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9216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terminisme génétique de la sensibilité à la photopériode chez l’o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7080" y="7621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Strake et Börner,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735360" cy="3929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038480" y="2252520"/>
            <a:ext cx="4800600" cy="304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29480" y="185112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pulation F2 Atsel x Bet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54400" y="5791320"/>
            <a:ext cx="79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68920" y="5791320"/>
            <a:ext cx="79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69000" y="5791320"/>
            <a:ext cx="79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33cc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5029200"/>
            <a:ext cx="0" cy="7621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933960" y="4952880"/>
            <a:ext cx="152280" cy="7621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4952880"/>
            <a:ext cx="685800" cy="8384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5_effa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64" name="p5_bar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2192040" cy="2192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72640" y="5257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1)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-988920" y="3203280"/>
            <a:ext cx="280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équences génotyp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èle statistique de décomposition de la valeur phénotyp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 additif d’un all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5_bar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2192040" cy="2192040"/>
          </a:xfrm>
          <a:prstGeom prst="rect">
            <a:avLst/>
          </a:prstGeom>
          <a:ln w="0">
            <a:noFill/>
          </a:ln>
        </p:spPr>
      </p:pic>
      <p:pic>
        <p:nvPicPr>
          <p:cNvPr id="69" name="p5_effb" descr=""/>
          <p:cNvPicPr/>
          <p:nvPr/>
        </p:nvPicPr>
        <p:blipFill>
          <a:blip r:embed="rId2"/>
          <a:stretch/>
        </p:blipFill>
        <p:spPr>
          <a:xfrm>
            <a:off x="3200400" y="6858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72640" y="5257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1)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988920" y="3203280"/>
            <a:ext cx="280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équences génotyp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èle statistique de décomposition de la valeur phénotyp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 additif d’un all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5_bar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2192040" cy="2192040"/>
          </a:xfrm>
          <a:prstGeom prst="rect">
            <a:avLst/>
          </a:prstGeom>
          <a:ln w="0">
            <a:noFill/>
          </a:ln>
        </p:spPr>
      </p:pic>
      <p:pic>
        <p:nvPicPr>
          <p:cNvPr id="74" name="p5_eff" descr=""/>
          <p:cNvPicPr/>
          <p:nvPr/>
        </p:nvPicPr>
        <p:blipFill>
          <a:blip r:embed="rId2"/>
          <a:stretch/>
        </p:blipFill>
        <p:spPr>
          <a:xfrm>
            <a:off x="3200400" y="6858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72640" y="5257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1) =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988920" y="3203280"/>
            <a:ext cx="280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équences génotyp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èle statistique de décomposition de la valeur phénotyp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 additif d’un all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4_eff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79" name="p4_bar" descr=""/>
          <p:cNvPicPr/>
          <p:nvPr/>
        </p:nvPicPr>
        <p:blipFill>
          <a:blip r:embed="rId2"/>
          <a:stretch/>
        </p:blipFill>
        <p:spPr>
          <a:xfrm>
            <a:off x="547560" y="237636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72640" y="5257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1) = 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-988920" y="3203280"/>
            <a:ext cx="280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équences génotyp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èle statistique de décomposition de la valeur phénotyp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 additif d’un all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3_bar" descr=""/>
          <p:cNvPicPr/>
          <p:nvPr/>
        </p:nvPicPr>
        <p:blipFill>
          <a:blip r:embed="rId1"/>
          <a:stretch/>
        </p:blipFill>
        <p:spPr>
          <a:xfrm>
            <a:off x="547560" y="2376360"/>
            <a:ext cx="2195640" cy="2195640"/>
          </a:xfrm>
          <a:prstGeom prst="rect">
            <a:avLst/>
          </a:prstGeom>
          <a:ln w="0">
            <a:noFill/>
          </a:ln>
        </p:spPr>
      </p:pic>
      <p:pic>
        <p:nvPicPr>
          <p:cNvPr id="84" name="p3_eff" descr=""/>
          <p:cNvPicPr/>
          <p:nvPr/>
        </p:nvPicPr>
        <p:blipFill>
          <a:blip r:embed="rId2"/>
          <a:stretch/>
        </p:blipFill>
        <p:spPr>
          <a:xfrm>
            <a:off x="3200400" y="6858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72640" y="5257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1) = 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-988920" y="3203280"/>
            <a:ext cx="280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équences génotyp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èle statistique de décomposition de la valeur phénotyp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 additif d’un all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2_eff" descr=""/>
          <p:cNvPicPr/>
          <p:nvPr/>
        </p:nvPicPr>
        <p:blipFill>
          <a:blip r:embed="rId1"/>
          <a:stretch/>
        </p:blipFill>
        <p:spPr>
          <a:xfrm>
            <a:off x="3200400" y="685800"/>
            <a:ext cx="5486400" cy="5486400"/>
          </a:xfrm>
          <a:prstGeom prst="rect">
            <a:avLst/>
          </a:prstGeom>
          <a:ln w="0">
            <a:noFill/>
          </a:ln>
        </p:spPr>
      </p:pic>
      <p:pic>
        <p:nvPicPr>
          <p:cNvPr id="89" name="p2_bar" descr=""/>
          <p:cNvPicPr/>
          <p:nvPr/>
        </p:nvPicPr>
        <p:blipFill>
          <a:blip r:embed="rId2"/>
          <a:stretch/>
        </p:blipFill>
        <p:spPr>
          <a:xfrm>
            <a:off x="547560" y="237636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72640" y="5257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A1) = 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988920" y="3203280"/>
            <a:ext cx="280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équences génotyp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èle statistique de décomposition de la valeur phénotyp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 additif d’un all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7:07:24Z</dcterms:created>
  <dc:creator>Christine Dillmann</dc:creator>
  <dc:description/>
  <dc:language>en-US</dc:language>
  <cp:lastModifiedBy>fred</cp:lastModifiedBy>
  <dcterms:modified xsi:type="dcterms:W3CDTF">2002-06-29T00:54:08Z</dcterms:modified>
  <cp:revision>75</cp:revision>
  <dc:subject/>
  <dc:title>Présentation PowerPoint</dc:title>
</cp:coreProperties>
</file>