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12.jpeg" ContentType="image/jpeg"/>
  <Override PartName="/ppt/media/image6.wmf" ContentType="image/x-wmf"/>
  <Override PartName="/ppt/media/image9.jpeg" ContentType="image/jpeg"/>
  <Override PartName="/ppt/media/image10.jpeg" ContentType="image/jpeg"/>
  <Override PartName="/ppt/media/image11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15ED-5EF4-470D-AA4D-1C548789C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A7C9-D2C7-4AFF-B17B-D0740B91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2AE4-ACEC-40A7-AEC1-D784F3F49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7E6F-9F66-4239-990A-EEB74B1E2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EC7A-F553-4837-9542-60B544B4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1B99-2F95-44F3-AA45-ECA202F6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3D66-EC78-45E7-B405-11F61340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DA93-1B5F-4D9C-98B1-970EEAED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2B04-F380-4F2D-96BC-E23E52A2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84E6-10BE-465A-BEED-116C98DB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FC0D-27A7-418E-A812-C379B1DF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0ABB-4DBF-4448-BF54-3BF4F65B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4EBA-5292-4941-858D-6A6DBA829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73664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l y a beaucoup d’épistasie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8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9680" y="87480"/>
            <a:ext cx="6836040" cy="4597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Variabilité génétique des quantités d’enzymes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28600" y="736560"/>
          <a:ext cx="7696080" cy="4368960"/>
        </p:xfrm>
        <a:graphic>
          <a:graphicData uri="http://schemas.openxmlformats.org/drawingml/2006/table">
            <a:tbl>
              <a:tblPr/>
              <a:tblGrid>
                <a:gridCol w="4065480"/>
                <a:gridCol w="1828800"/>
                <a:gridCol w="1801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En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Quantité moyen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Comic Sans MS"/>
                        </a:rPr>
                        <a:t>Max /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5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66cc"/>
                          </a:solidFill>
                          <a:latin typeface="Tahoma"/>
                          <a:ea typeface="Tahoma"/>
                        </a:rPr>
                        <a:t>Phosphoglycerate mutas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66cc"/>
                          </a:solidFill>
                          <a:latin typeface="Tahoma"/>
                        </a:rPr>
                        <a:t>L-ascorbate peroxid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cc"/>
                          </a:solidFill>
                          <a:latin typeface="Tahoma"/>
                        </a:rPr>
                        <a:t>OSR40 (LE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66cc"/>
                          </a:solidFill>
                          <a:latin typeface="Tahoma"/>
                        </a:rPr>
                        <a:t>Ferrit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66cc"/>
                          </a:solidFill>
                          <a:latin typeface="Tahoma"/>
                        </a:rPr>
                        <a:t>ABA/ripening prote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5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66cc"/>
                          </a:solidFill>
                          <a:latin typeface="Tahoma"/>
                        </a:rPr>
                        <a:t>Initiation factor IEF-5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66cc"/>
                          </a:solidFill>
                          <a:latin typeface="Tahoma"/>
                        </a:rPr>
                        <a:t>Glutathione S-transferase III</a:t>
                      </a:r>
                      <a:r>
                        <a:rPr b="0" lang="fr-FR" sz="1600" spc="-1" strike="noStrike">
                          <a:solidFill>
                            <a:srgbClr val="0066cc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66cc"/>
                          </a:solidFill>
                          <a:latin typeface="Tahoma"/>
                        </a:rPr>
                        <a:t>Caffeate O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Glutathione S-transferase III (isoform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Tahoma"/>
                          <a:ea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innamyl alcohol dehydrogen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Tahoma"/>
                          <a:ea typeface="Tahoma"/>
                        </a:rPr>
                        <a:t>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ethionine adenosyl transfer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Tahoma"/>
                          <a:ea typeface="Tahoma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-24120" y="5410080"/>
            <a:ext cx="9381240" cy="4597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uantité totale de protéines allouées à une chaîne métabolique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127320" y="5943600"/>
            <a:ext cx="1909440" cy="784440"/>
            <a:chOff x="3127320" y="5943600"/>
            <a:chExt cx="1909440" cy="784440"/>
          </a:xfrm>
        </p:grpSpPr>
        <p:sp>
          <p:nvSpPr>
            <p:cNvPr id="146" name=""/>
            <p:cNvSpPr/>
            <p:nvPr/>
          </p:nvSpPr>
          <p:spPr>
            <a:xfrm>
              <a:off x="3250800" y="642276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27320" y="5943600"/>
              <a:ext cx="2840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479400" y="596556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0000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90440" y="619416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35880" y="5965560"/>
              <a:ext cx="11008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3200" spc="-1" strike="noStrike">
                  <a:solidFill>
                    <a:srgbClr val="ff0000"/>
                  </a:solidFill>
                  <a:latin typeface="Times New Roman"/>
                </a:rPr>
                <a:t>= Qto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flux.gapdh.noreg" descr=""/>
          <p:cNvPicPr/>
          <p:nvPr/>
        </p:nvPicPr>
        <p:blipFill>
          <a:blip r:embed="rId1"/>
          <a:stretch/>
        </p:blipFill>
        <p:spPr>
          <a:xfrm>
            <a:off x="1523880" y="1139760"/>
            <a:ext cx="2746440" cy="2746440"/>
          </a:xfrm>
          <a:prstGeom prst="rect">
            <a:avLst/>
          </a:prstGeom>
          <a:ln w="0">
            <a:noFill/>
          </a:ln>
        </p:spPr>
      </p:pic>
      <p:pic>
        <p:nvPicPr>
          <p:cNvPr id="152" name="flux.gapdh.reg" descr=""/>
          <p:cNvPicPr/>
          <p:nvPr/>
        </p:nvPicPr>
        <p:blipFill>
          <a:blip r:embed="rId2"/>
          <a:stretch/>
        </p:blipFill>
        <p:spPr>
          <a:xfrm>
            <a:off x="1523880" y="3882960"/>
            <a:ext cx="2746440" cy="2746440"/>
          </a:xfrm>
          <a:prstGeom prst="rect">
            <a:avLst/>
          </a:prstGeom>
          <a:ln w="0">
            <a:noFill/>
          </a:ln>
        </p:spPr>
      </p:pic>
      <p:pic>
        <p:nvPicPr>
          <p:cNvPr id="153" name="flux.gapdh.qtot" descr=""/>
          <p:cNvPicPr/>
          <p:nvPr/>
        </p:nvPicPr>
        <p:blipFill>
          <a:blip r:embed="rId3"/>
          <a:stretch/>
        </p:blipFill>
        <p:spPr>
          <a:xfrm>
            <a:off x="4721400" y="1143000"/>
            <a:ext cx="2746080" cy="2746440"/>
          </a:xfrm>
          <a:prstGeom prst="rect">
            <a:avLst/>
          </a:prstGeom>
          <a:ln w="0">
            <a:noFill/>
          </a:ln>
        </p:spPr>
      </p:pic>
      <p:pic>
        <p:nvPicPr>
          <p:cNvPr id="154" name="flux.gapdh.qtot.reg" descr=""/>
          <p:cNvPicPr/>
          <p:nvPr/>
        </p:nvPicPr>
        <p:blipFill>
          <a:blip r:embed="rId4"/>
          <a:stretch/>
        </p:blipFill>
        <p:spPr>
          <a:xfrm>
            <a:off x="4724280" y="3882960"/>
            <a:ext cx="2746440" cy="27464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968840" y="533520"/>
            <a:ext cx="569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66"/>
                </a:solidFill>
                <a:latin typeface="Comic Sans MS"/>
              </a:rPr>
              <a:t>Contraintes sur la quantité totale de proté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54560" y="990720"/>
            <a:ext cx="263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cc99"/>
                </a:solidFill>
                <a:latin typeface="Comic Sans MS"/>
              </a:rPr>
              <a:t>Absence = 0&lt;Qtot&lt;</a:t>
            </a:r>
            <a:r>
              <a:rPr b="0" lang="fr-FR" sz="2000" spc="-1" strike="noStrike">
                <a:solidFill>
                  <a:srgbClr val="00cc99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39480" y="990720"/>
            <a:ext cx="28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9966"/>
                </a:solidFill>
                <a:latin typeface="Comic Sans MS"/>
              </a:rPr>
              <a:t>Présence = Qtot = c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56400">
            <a:off x="-926640" y="3340080"/>
            <a:ext cx="359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a50021"/>
                </a:solidFill>
                <a:latin typeface="Comic Sans MS"/>
              </a:rPr>
              <a:t>Co-régulation de l’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578520" y="2405160"/>
            <a:ext cx="11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Abs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146600">
            <a:off x="491400" y="496908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Comic Sans MS"/>
              </a:rPr>
              <a:t>Prés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sel.assym" descr=""/>
          <p:cNvPicPr/>
          <p:nvPr/>
        </p:nvPicPr>
        <p:blipFill>
          <a:blip r:embed="rId1"/>
          <a:stretch/>
        </p:blipFill>
        <p:spPr>
          <a:xfrm>
            <a:off x="380880" y="826920"/>
            <a:ext cx="6031080" cy="6031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33200" y="87480"/>
            <a:ext cx="596448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8000"/>
                </a:solidFill>
                <a:latin typeface="Comic Sans MS"/>
              </a:rPr>
              <a:t>Implications sélectives de la contrainte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8000"/>
                </a:solidFill>
                <a:latin typeface="Comic Sans MS"/>
              </a:rPr>
              <a:t>assymétrie des coefficients de sé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733920" y="1295280"/>
                <a:ext cx="251460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Sup>
                          <m:e>
                            <m:r>
                              <m:t xml:space="preserve">δ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qw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</m:sSub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δ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qw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</m:sSubSup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800600" y="2873520"/>
                <a:ext cx="22464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δ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w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 flipH="1">
            <a:off x="1066680" y="27432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3760" y="6024600"/>
            <a:ext cx="844560" cy="376200"/>
          </a:xfrm>
          <a:custGeom>
            <a:avLst/>
            <a:gdLst>
              <a:gd name="textAreaLeft" fmla="*/ 147600 w 844560"/>
              <a:gd name="textAreaRight" fmla="*/ 612360 w 844560"/>
              <a:gd name="textAreaTop" fmla="*/ 50400 h 376200"/>
              <a:gd name="textAreaBottom" fmla="*/ 325800 h 37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96911"/>
                <a:lnTo>
                  <a:pt x="21174" y="7147"/>
                </a:lnTo>
                <a:lnTo>
                  <a:pt x="17280" y="0"/>
                </a:lnTo>
                <a:lnTo>
                  <a:pt x="12534" y="7147"/>
                </a:lnTo>
                <a:lnTo>
                  <a:pt x="14694" y="7147"/>
                </a:lnTo>
                <a:arcTo wR="7560" hR="21600" stAng="2703089" swAng="2339476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971800" y="6022800"/>
            <a:ext cx="768240" cy="378000"/>
          </a:xfrm>
          <a:custGeom>
            <a:avLst/>
            <a:gdLst>
              <a:gd name="textAreaLeft" fmla="*/ 134280 w 768240"/>
              <a:gd name="textAreaRight" fmla="*/ 556920 w 768240"/>
              <a:gd name="textAreaTop" fmla="*/ 50400 h 378000"/>
              <a:gd name="textAreaBottom" fmla="*/ 327600 h 3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81320" y="64008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42360" y="640080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86400" y="421956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a sélection  est plus efficace pour éliminer une mutation défavorable que pour fixer une mutation favor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24480" y="0"/>
            <a:ext cx="2819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Comic Sans MS"/>
              </a:rPr>
              <a:t>Gabriel, Dillmann, Fievet, Bost, de Vienne, in pr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52680" y="1981080"/>
            <a:ext cx="228600" cy="762120"/>
          </a:xfrm>
          <a:prstGeom prst="upArrow">
            <a:avLst>
              <a:gd name="adj1" fmla="val 50000"/>
              <a:gd name="adj2" fmla="val 83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1142640" y="37339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86200" y="2743200"/>
            <a:ext cx="609480" cy="990720"/>
          </a:xfrm>
          <a:prstGeom prst="upArrow">
            <a:avLst>
              <a:gd name="adj1" fmla="val 50000"/>
              <a:gd name="adj2" fmla="val 4063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6960" y="1676520"/>
            <a:ext cx="542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33cc33"/>
                </a:solidFill>
                <a:latin typeface="Tahoma"/>
              </a:rPr>
              <a:t>J</a:t>
            </a:r>
            <a:r>
              <a:rPr b="1" i="1" lang="fr-FR" sz="1800" spc="-1" strike="noStrike" baseline="-20000">
                <a:solidFill>
                  <a:srgbClr val="33cc33"/>
                </a:solidFill>
                <a:latin typeface="Tahoma"/>
              </a:rPr>
              <a:t>m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6520" y="2514600"/>
            <a:ext cx="362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5050"/>
                </a:solidFill>
                <a:latin typeface="Tahoma"/>
              </a:rPr>
              <a:t>J</a:t>
            </a:r>
            <a:r>
              <a:rPr b="1" i="1" lang="fr-FR" sz="1800" spc="-1" strike="noStrike" baseline="-20000">
                <a:solidFill>
                  <a:srgbClr val="ff5050"/>
                </a:solidFill>
                <a:latin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142640" y="19810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7320" y="3429000"/>
            <a:ext cx="508680" cy="39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3333cc"/>
                </a:solidFill>
                <a:latin typeface="Tahoma"/>
              </a:rPr>
              <a:t>J</a:t>
            </a:r>
            <a:r>
              <a:rPr b="1" i="1" lang="fr-FR" sz="1800" spc="-1" strike="noStrike" baseline="-20000">
                <a:solidFill>
                  <a:srgbClr val="3333cc"/>
                </a:solidFill>
                <a:latin typeface="Tahoma"/>
              </a:rPr>
              <a:t>m(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7880" y="126036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07920" y="624852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rtion de l’enzy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sel.opt.1" descr=""/>
          <p:cNvPicPr/>
          <p:nvPr/>
        </p:nvPicPr>
        <p:blipFill>
          <a:blip r:embed="rId1"/>
          <a:stretch/>
        </p:blipFill>
        <p:spPr>
          <a:xfrm>
            <a:off x="352440" y="457200"/>
            <a:ext cx="6581880" cy="65818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05120" y="87480"/>
            <a:ext cx="671724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Implications sélectives de la contrai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contre-sélection des concentrations extrê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8880" y="2681280"/>
            <a:ext cx="362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5050"/>
                </a:solidFill>
                <a:latin typeface="Tahoma"/>
              </a:rPr>
              <a:t>J</a:t>
            </a:r>
            <a:r>
              <a:rPr b="1" i="1" lang="fr-FR" sz="1800" spc="-1" strike="noStrike" baseline="-20000">
                <a:solidFill>
                  <a:srgbClr val="ff5050"/>
                </a:solidFill>
                <a:latin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320" y="1447920"/>
            <a:ext cx="1143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339966"/>
                </a:solidFill>
                <a:latin typeface="Tahoma"/>
              </a:rPr>
              <a:t>J</a:t>
            </a:r>
            <a:r>
              <a:rPr b="1" i="1" lang="fr-FR" sz="1800" spc="-1" strike="noStrike" baseline="-20000">
                <a:solidFill>
                  <a:srgbClr val="339966"/>
                </a:solidFill>
                <a:latin typeface="Tahoma"/>
              </a:rPr>
              <a:t>m(-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52480" y="4038480"/>
            <a:ext cx="228600" cy="152640"/>
          </a:xfrm>
          <a:prstGeom prst="rightArrow">
            <a:avLst>
              <a:gd name="adj1" fmla="val 50000"/>
              <a:gd name="adj2" fmla="val 37441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3580920" y="3809880"/>
            <a:ext cx="762120" cy="609840"/>
          </a:xfrm>
          <a:prstGeom prst="rightArrow">
            <a:avLst>
              <a:gd name="adj1" fmla="val 50000"/>
              <a:gd name="adj2" fmla="val 31243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276000" y="6172200"/>
            <a:ext cx="1066680" cy="200160"/>
          </a:xfrm>
          <a:custGeom>
            <a:avLst/>
            <a:gdLst>
              <a:gd name="textAreaLeft" fmla="*/ 186120 w 1066680"/>
              <a:gd name="textAreaRight" fmla="*/ 772920 w 1066680"/>
              <a:gd name="textAreaTop" fmla="*/ 26640 h 200160"/>
              <a:gd name="textAreaBottom" fmla="*/ 173520 h 20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90840" y="2085840"/>
            <a:ext cx="477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a sélection est plus efficace pour diminuer la quantité d’une enzyme en excès que pour augmenter la quantité d’une enzyme en défic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52480" y="6175440"/>
            <a:ext cx="381240" cy="187200"/>
          </a:xfrm>
          <a:custGeom>
            <a:avLst/>
            <a:gdLst>
              <a:gd name="textAreaLeft" fmla="*/ 66600 w 381240"/>
              <a:gd name="textAreaRight" fmla="*/ 276480 w 381240"/>
              <a:gd name="textAreaTop" fmla="*/ 24840 h 187200"/>
              <a:gd name="textAreaBottom" fmla="*/ 162360 h 18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5080" y="11430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84240" y="640080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rtion de l’enzy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429000" y="1828440"/>
            <a:ext cx="0" cy="396252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1981080" y="2209320"/>
            <a:ext cx="0" cy="358164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2209680"/>
            <a:ext cx="761760" cy="0"/>
          </a:xfrm>
          <a:prstGeom prst="line">
            <a:avLst/>
          </a:prstGeom>
          <a:ln w="28440">
            <a:solidFill>
              <a:srgbClr val="33cc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143000" y="1828800"/>
            <a:ext cx="2286000" cy="0"/>
          </a:xfrm>
          <a:prstGeom prst="line">
            <a:avLst/>
          </a:prstGeom>
          <a:ln w="2844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919160"/>
            <a:ext cx="1143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33cc33"/>
                </a:solidFill>
                <a:latin typeface="Tahoma"/>
              </a:rPr>
              <a:t>J</a:t>
            </a:r>
            <a:r>
              <a:rPr b="1" i="1" lang="fr-FR" sz="1800" spc="-1" strike="noStrike" baseline="-20000">
                <a:solidFill>
                  <a:srgbClr val="33cc33"/>
                </a:solidFill>
                <a:latin typeface="Tahoma"/>
              </a:rPr>
              <a:t>m(+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35040" y="636264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 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3760" y="632448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 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-14400" y="87480"/>
            <a:ext cx="7209360" cy="45972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Les flux métaboliques comme modèle d’épista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8288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Modèle biochimiqu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permettant de relier les gènes (les enzymes) au phénotype et d’expliquer les interactions entre allèl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ominance (heteros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pistasie (antagoniste, synergique, moins qu’additive, A*D,…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733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dèle épistatiq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les coefficients de sélection qui s’appliquent sur une enzyme varient en fonction du contexte génétique et du sens de la sé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197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dèle de référ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mettant de combiner des approches théoriques et expérim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6240" y="15256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èle addi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047600" y="5295960"/>
                <a:ext cx="240048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ε</m:t>
                        </m:r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q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q</m:t>
                                        </m:r>
                                      </m:sub>
                                      <m:sup/>
                                    </m:sSubSup>
                                  </m:e>
                                </m:d>
                              </m:den>
                            </m:f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158840" y="2097000"/>
                <a:ext cx="27939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  <m:sup/>
                            </m:sSubSup>
                          </m:e>
                        </m:d>
                        <m:r>
                          <m:t xml:space="preserve">+</m:t>
                        </m:r>
                        <m:r>
                          <m:t xml:space="preserve">ε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4452120" y="1752480"/>
            <a:ext cx="446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modèle non épistatique de réfé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3720" y="3162240"/>
            <a:ext cx="58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dèle multiplicatif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(Dillmann &amp; Foulley, 199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120680" y="3772080"/>
                <a:ext cx="28321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nary>
                      <m:naryPr>
                        <m:chr m:val="∏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  <m:sup/>
                            </m:sSubSup>
                          </m:e>
                        </m:d>
                      </m:e>
                    </m:nary>
                    <m:r>
                      <m:t xml:space="preserve">+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172800" y="4686480"/>
            <a:ext cx="69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dèle métabolique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(Bost, Dillmann &amp; de Vienne, 199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14680" y="3657600"/>
            <a:ext cx="420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réponse à la sélection accélér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- très sensible à la dérive géné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05080" y="5284800"/>
            <a:ext cx="504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Bases biochimique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- la distribution en « L » des effets des Q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- la dominance et l ’hetero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4000" y="146160"/>
            <a:ext cx="791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sser du génotype au phénoty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736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 flux métaboliques comme modèles de caractères quantitatif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2016720" y="892080"/>
            <a:ext cx="4764960" cy="3797640"/>
            <a:chOff x="2016720" y="892080"/>
            <a:chExt cx="4764960" cy="3797640"/>
          </a:xfrm>
        </p:grpSpPr>
        <p:pic>
          <p:nvPicPr>
            <p:cNvPr id="54" name="dean" descr=""/>
            <p:cNvPicPr/>
            <p:nvPr/>
          </p:nvPicPr>
          <p:blipFill>
            <a:blip r:embed="rId1"/>
            <a:srcRect l="23379" t="7389" r="28609" b="56868"/>
            <a:stretch/>
          </p:blipFill>
          <p:spPr>
            <a:xfrm>
              <a:off x="3090960" y="892080"/>
              <a:ext cx="3365280" cy="37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400800" y="42908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16720" y="1197000"/>
              <a:ext cx="104940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fr-FR" sz="2400" spc="-1" strike="noStrike" baseline="-20000">
                  <a:solidFill>
                    <a:srgbClr val="000000"/>
                  </a:solidFill>
                  <a:latin typeface="Times New Roman"/>
                </a:rPr>
                <a:t>croiss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83160" y="87480"/>
            <a:ext cx="5456880" cy="4597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lux métaboliques et valeur sél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137200"/>
            <a:ext cx="92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Il existe une relation linéaire entre le flux de lactose et la vitesse de croissance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chémostat d’</a:t>
            </a:r>
            <a:r>
              <a:rPr b="0" i="1" lang="fr-FR" sz="2400" spc="-1" strike="noStrike">
                <a:solidFill>
                  <a:srgbClr val="808080"/>
                </a:solidFill>
                <a:latin typeface="Arial"/>
              </a:rPr>
              <a:t>Escherichia c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760" y="65880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mic Sans MS"/>
              </a:rPr>
              <a:t>Dean et al, 19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metabolisme4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078760" cy="6216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éseau de voies métaboliques dans une cell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828800" y="762120"/>
            <a:ext cx="5945040" cy="5930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01880" y="81000"/>
            <a:ext cx="60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odèle d’étude : la glycolyse chez la lev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5400" y="81000"/>
            <a:ext cx="90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a théorie du contrôle métabol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85040" y="1066680"/>
            <a:ext cx="8749440" cy="679320"/>
            <a:chOff x="185040" y="1066680"/>
            <a:chExt cx="8749440" cy="679320"/>
          </a:xfrm>
        </p:grpSpPr>
        <p:sp>
          <p:nvSpPr>
            <p:cNvPr id="66" name=""/>
            <p:cNvSpPr/>
            <p:nvPr/>
          </p:nvSpPr>
          <p:spPr>
            <a:xfrm>
              <a:off x="1000800" y="1066680"/>
              <a:ext cx="1803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1" lang="en-US" sz="1600" spc="-1" strike="noStrike" baseline="-20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72400" y="1066680"/>
              <a:ext cx="1803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1" lang="en-US" sz="1600" spc="-1" strike="noStrike" baseline="-20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41120" y="1066680"/>
              <a:ext cx="148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1" lang="fr-FR" sz="1600" spc="-1" strike="noStrike" baseline="-20000">
                  <a:solidFill>
                    <a:srgbClr val="000000"/>
                  </a:solidFill>
                  <a:latin typeface="Tahoma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072400" y="1076400"/>
              <a:ext cx="28260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1" lang="fr-FR" sz="1600" spc="-1" strike="noStrike" baseline="-20000">
                  <a:solidFill>
                    <a:srgbClr val="000000"/>
                  </a:solidFill>
                  <a:latin typeface="Tahoma"/>
                </a:rPr>
                <a:t>j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758360" y="1076400"/>
              <a:ext cx="1911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1" lang="en-US" sz="1600" spc="-1" strike="noStrike" baseline="-20000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039080" y="1241280"/>
              <a:ext cx="45828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3333cc"/>
                  </a:solidFill>
                  <a:latin typeface="Arial Unicode MS"/>
                </a:rPr>
                <a:t>S</a:t>
              </a:r>
              <a:r>
                <a:rPr b="0" lang="fr-FR" sz="2400" spc="-1" strike="noStrike" baseline="-20000">
                  <a:solidFill>
                    <a:srgbClr val="3333cc"/>
                  </a:solidFill>
                  <a:latin typeface="Arial Unicode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59880" y="1249200"/>
              <a:ext cx="59544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3333cc"/>
                  </a:solidFill>
                  <a:latin typeface="Arial Unicode MS"/>
                </a:rPr>
                <a:t>S</a:t>
              </a:r>
              <a:r>
                <a:rPr b="0" lang="fr-FR" sz="2400" spc="-1" strike="noStrike" baseline="-20000">
                  <a:solidFill>
                    <a:srgbClr val="3333cc"/>
                  </a:solidFill>
                  <a:latin typeface="Arial Unicode MS"/>
                </a:rPr>
                <a:t>j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96920" y="12445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9520" y="1251000"/>
              <a:ext cx="44892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 Unicode MS"/>
                </a:rPr>
                <a:t>S</a:t>
              </a:r>
              <a:r>
                <a:rPr b="0" lang="en-US" sz="2400" spc="-1" strike="noStrike" baseline="-20000">
                  <a:solidFill>
                    <a:srgbClr val="3333cc"/>
                  </a:solidFill>
                  <a:latin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5040" y="1249200"/>
              <a:ext cx="44892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 Unicode MS"/>
                </a:rPr>
                <a:t>S</a:t>
              </a:r>
              <a:r>
                <a:rPr b="0" lang="en-US" sz="2400" spc="-1" strike="noStrike" baseline="-20000">
                  <a:solidFill>
                    <a:srgbClr val="3333cc"/>
                  </a:solidFill>
                  <a:latin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274960" y="1246320"/>
              <a:ext cx="65952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3333cc"/>
                  </a:solidFill>
                  <a:latin typeface="Arial Unicode MS"/>
                </a:rPr>
                <a:t>S</a:t>
              </a:r>
              <a:r>
                <a:rPr b="0" lang="fr-FR" sz="2400" spc="-1" strike="noStrike" baseline="-20000">
                  <a:solidFill>
                    <a:srgbClr val="3333cc"/>
                  </a:solidFill>
                  <a:latin typeface="Arial Unicode MS"/>
                </a:rPr>
                <a:t>n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3423960" y="1430280"/>
              <a:ext cx="828720" cy="95040"/>
              <a:chOff x="3423960" y="1430280"/>
              <a:chExt cx="828720" cy="95040"/>
            </a:xfrm>
          </p:grpSpPr>
          <p:sp>
            <p:nvSpPr>
              <p:cNvPr id="78" name=""/>
              <p:cNvSpPr/>
              <p:nvPr/>
            </p:nvSpPr>
            <p:spPr>
              <a:xfrm flipH="1">
                <a:off x="3423960" y="1525320"/>
                <a:ext cx="82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423960" y="1430280"/>
                <a:ext cx="82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43360" y="1430280"/>
              <a:ext cx="828720" cy="95040"/>
              <a:chOff x="7443360" y="1430280"/>
              <a:chExt cx="828720" cy="95040"/>
            </a:xfrm>
          </p:grpSpPr>
          <p:sp>
            <p:nvSpPr>
              <p:cNvPr id="81" name=""/>
              <p:cNvSpPr/>
              <p:nvPr/>
            </p:nvSpPr>
            <p:spPr>
              <a:xfrm flipH="1">
                <a:off x="7443360" y="1525320"/>
                <a:ext cx="82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443720" y="1430280"/>
                <a:ext cx="82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4795560" y="1430280"/>
              <a:ext cx="828720" cy="95040"/>
              <a:chOff x="4795560" y="1430280"/>
              <a:chExt cx="828720" cy="95040"/>
            </a:xfrm>
          </p:grpSpPr>
          <p:sp>
            <p:nvSpPr>
              <p:cNvPr id="84" name=""/>
              <p:cNvSpPr/>
              <p:nvPr/>
            </p:nvSpPr>
            <p:spPr>
              <a:xfrm flipH="1">
                <a:off x="4795560" y="1525320"/>
                <a:ext cx="82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795560" y="1430280"/>
                <a:ext cx="82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2052360" y="1430280"/>
              <a:ext cx="828720" cy="95040"/>
              <a:chOff x="2052360" y="1430280"/>
              <a:chExt cx="828720" cy="95040"/>
            </a:xfrm>
          </p:grpSpPr>
          <p:sp>
            <p:nvSpPr>
              <p:cNvPr id="87" name=""/>
              <p:cNvSpPr/>
              <p:nvPr/>
            </p:nvSpPr>
            <p:spPr>
              <a:xfrm flipH="1">
                <a:off x="2052360" y="1525320"/>
                <a:ext cx="82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052360" y="1430280"/>
                <a:ext cx="82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680760" y="1430280"/>
              <a:ext cx="828720" cy="95040"/>
              <a:chOff x="680760" y="1430280"/>
              <a:chExt cx="828720" cy="95040"/>
            </a:xfrm>
          </p:grpSpPr>
          <p:sp>
            <p:nvSpPr>
              <p:cNvPr id="90" name=""/>
              <p:cNvSpPr/>
              <p:nvPr/>
            </p:nvSpPr>
            <p:spPr>
              <a:xfrm flipH="1">
                <a:off x="680760" y="1525320"/>
                <a:ext cx="82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80760" y="1430280"/>
                <a:ext cx="82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5649480" y="12445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429240" y="1066680"/>
              <a:ext cx="2962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1" lang="en-US" sz="1600" spc="-1" strike="noStrike" baseline="-20000">
                  <a:solidFill>
                    <a:srgbClr val="000000"/>
                  </a:solidFill>
                  <a:latin typeface="Tahoma"/>
                </a:rPr>
                <a:t>n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6157800" y="1420920"/>
              <a:ext cx="828720" cy="95040"/>
              <a:chOff x="6157800" y="1420920"/>
              <a:chExt cx="828720" cy="95040"/>
            </a:xfrm>
          </p:grpSpPr>
          <p:sp>
            <p:nvSpPr>
              <p:cNvPr id="95" name=""/>
              <p:cNvSpPr/>
              <p:nvPr/>
            </p:nvSpPr>
            <p:spPr>
              <a:xfrm flipH="1">
                <a:off x="6157800" y="1515960"/>
                <a:ext cx="82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157800" y="1420920"/>
                <a:ext cx="82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" name=""/>
          <p:cNvSpPr/>
          <p:nvPr/>
        </p:nvSpPr>
        <p:spPr>
          <a:xfrm>
            <a:off x="66600" y="2925720"/>
            <a:ext cx="6943680" cy="20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Flux à l’</a:t>
            </a:r>
            <a:r>
              <a:rPr b="0" lang="fr-FR" sz="2000" spc="-1" strike="noStrike" u="sng">
                <a:solidFill>
                  <a:srgbClr val="3333cc"/>
                </a:solidFill>
                <a:uFillTx/>
                <a:latin typeface="Arial"/>
              </a:rPr>
              <a:t>état stationnaire</a:t>
            </a: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 :  </a:t>
            </a:r>
            <a:r>
              <a:rPr b="0" i="1" lang="fr-FR" sz="20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0" lang="fr-FR" sz="2000" spc="-1" strike="noStrike" baseline="-20000">
                <a:solidFill>
                  <a:srgbClr val="3333cc"/>
                </a:solidFill>
                <a:latin typeface="Arial"/>
              </a:rPr>
              <a:t>1 </a:t>
            </a: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= </a:t>
            </a:r>
            <a:r>
              <a:rPr b="0" i="1" lang="fr-FR" sz="20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0" lang="fr-FR" sz="2000" spc="-1" strike="noStrike" baseline="-20000">
                <a:solidFill>
                  <a:srgbClr val="3333cc"/>
                </a:solidFill>
                <a:latin typeface="Arial"/>
              </a:rPr>
              <a:t>2 </a:t>
            </a: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= …</a:t>
            </a:r>
            <a:r>
              <a:rPr b="0" lang="fr-FR" sz="2000" spc="-1" strike="noStrike" baseline="-20000">
                <a:solidFill>
                  <a:srgbClr val="3333cc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= </a:t>
            </a:r>
            <a:r>
              <a:rPr b="0" i="1" lang="fr-FR" sz="20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0" lang="fr-FR" sz="2000" spc="-1" strike="noStrike" baseline="-20000">
                <a:solidFill>
                  <a:srgbClr val="3333cc"/>
                </a:solidFill>
                <a:latin typeface="Arial"/>
              </a:rPr>
              <a:t>j </a:t>
            </a: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= … = </a:t>
            </a:r>
            <a:r>
              <a:rPr b="0" i="1" lang="fr-FR" sz="20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0" lang="fr-FR" sz="2000" spc="-1" strike="noStrike" baseline="-20000">
                <a:solidFill>
                  <a:srgbClr val="3333cc"/>
                </a:solidFill>
                <a:latin typeface="Arial"/>
              </a:rPr>
              <a:t>n </a:t>
            </a: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=</a:t>
            </a:r>
            <a:r>
              <a:rPr b="0" i="1" lang="fr-FR" sz="2000" spc="-1" strike="noStrike">
                <a:solidFill>
                  <a:srgbClr val="3333cc"/>
                </a:solidFill>
                <a:latin typeface="Arial"/>
              </a:rPr>
              <a:t>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baseline="-20000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baseline="-20000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baseline="-20000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91600" y="2057400"/>
            <a:ext cx="24588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lux = d[S</a:t>
            </a:r>
            <a:r>
              <a:rPr b="0" lang="fr-FR" sz="2400" spc="-1" strike="noStrike" baseline="-20000">
                <a:solidFill>
                  <a:srgbClr val="000000"/>
                </a:solidFill>
                <a:latin typeface="Arial"/>
              </a:rPr>
              <a:t>n+1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] / 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066680" y="3809880"/>
            <a:ext cx="1881360" cy="1540440"/>
            <a:chOff x="1066680" y="3809880"/>
            <a:chExt cx="1881360" cy="1540440"/>
          </a:xfrm>
        </p:grpSpPr>
        <p:sp>
          <p:nvSpPr>
            <p:cNvPr id="100" name=""/>
            <p:cNvSpPr/>
            <p:nvPr/>
          </p:nvSpPr>
          <p:spPr>
            <a:xfrm>
              <a:off x="2039760" y="4757400"/>
              <a:ext cx="8953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85880" y="4287600"/>
              <a:ext cx="12621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66680" y="4047840"/>
              <a:ext cx="169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15440" y="3809880"/>
              <a:ext cx="255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83920" y="504504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50840" y="500040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0520" y="496080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39400" y="479232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56720" y="4836960"/>
              <a:ext cx="24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21200" y="4005000"/>
              <a:ext cx="303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97040" y="4481280"/>
              <a:ext cx="2840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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96880" y="427824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59840" y="6234120"/>
            <a:ext cx="703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Comic Sans MS"/>
              </a:rPr>
              <a:t>Kacser and Burns, 1973       Heinrich and Rappoport, 19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67720" y="3699000"/>
            <a:ext cx="495684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K : constantes d’équilibres, S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"/>
              </a:rPr>
              <a:t>n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Qj : quantité de l’enzyme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j : paramètres cinétiques de l’enzy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2Dyeastmap" descr=""/>
          <p:cNvPicPr/>
          <p:nvPr/>
        </p:nvPicPr>
        <p:blipFill>
          <a:blip r:embed="rId1"/>
          <a:stretch/>
        </p:blipFill>
        <p:spPr>
          <a:xfrm>
            <a:off x="1733400" y="590400"/>
            <a:ext cx="5677200" cy="5677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286000" y="4419720"/>
            <a:ext cx="838080" cy="3808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24240" y="3524400"/>
            <a:ext cx="838080" cy="3808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57640" y="2914560"/>
            <a:ext cx="647640" cy="2476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62440" y="3238560"/>
            <a:ext cx="838440" cy="3808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57800" y="2657520"/>
            <a:ext cx="647640" cy="2476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76760" y="2895480"/>
            <a:ext cx="647640" cy="29556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95640" y="2343240"/>
            <a:ext cx="647640" cy="2476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48160" y="1457280"/>
            <a:ext cx="380880" cy="2476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38680" y="3114720"/>
            <a:ext cx="419040" cy="2476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57760" y="2819520"/>
            <a:ext cx="380880" cy="2476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86160" y="2448000"/>
            <a:ext cx="381240" cy="2476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14920" y="4695840"/>
            <a:ext cx="380880" cy="2476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1880" y="81000"/>
            <a:ext cx="79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Quantification des enzymes de la glycolyse chez la lev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0640" y="6400800"/>
            <a:ext cx="222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Comic Sans MS"/>
              </a:rPr>
              <a:t>Thèse Julie Fiev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3009960" y="3733920"/>
          <a:ext cx="4686120" cy="3190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3733920"/>
                    <a:ext cx="4686120" cy="31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2952720" y="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Nombre de molécules par cell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52720" y="34290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aramètres cinét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2380320" y="1476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1451520" y="5077080"/>
            <a:ext cx="285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Log(nb moles S/mn/mg enzy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640" y="6234120"/>
            <a:ext cx="239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Comic Sans MS"/>
              </a:rPr>
              <a:t>Teusink et al,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981080"/>
            <a:ext cx="266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Comic Sans MS"/>
              </a:rPr>
              <a:t>Fievet, Dillmann, Negroni, Davanture, Lagniel, Labarre &amp; de Vienne, in pre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12333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cc"/>
                </a:solidFill>
                <a:latin typeface="Arial"/>
              </a:rPr>
              <a:t>Q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572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A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543040" y="352440"/>
          <a:ext cx="5153040" cy="3152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43040" y="352440"/>
                    <a:ext cx="5153040" cy="31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16:25:36Z</dcterms:created>
  <dc:creator>Christine Dillmann</dc:creator>
  <dc:description/>
  <dc:language>en-US</dc:language>
  <cp:lastModifiedBy>fred</cp:lastModifiedBy>
  <dcterms:modified xsi:type="dcterms:W3CDTF">2002-06-29T01:34:32Z</dcterms:modified>
  <cp:revision>54</cp:revision>
  <dc:subject/>
  <dc:title>Présentation PowerPoint</dc:title>
</cp:coreProperties>
</file>