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4.jpeg" ContentType="image/jpeg"/>
  <Override PartName="/ppt/media/image14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2465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521-49CF-4F54-9D4A-AB7EEDD6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621-5458-4C59-B4DD-2B8D58B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847-A9B5-4BCB-B726-2FA4DC21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D11-8390-4723-8658-A957CCAD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B75-C8A4-41EA-85AC-EB54B1A0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94E-BEA0-4F87-B203-FEEA6F13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415-B161-45C7-A5F4-F1F3C0F0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DFB-F4EE-4946-BDAF-39912831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484-0EF5-4939-BD0E-1CB11961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02F-304E-486C-A3B3-E16EB33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A9E-C7C9-40C6-A29C-EAF3FF7F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25B-DA4B-4728-BEED-B929D45E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325-727E-40AC-8817-DD653F410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2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3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24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25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4320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éterminisme génétique des caractères quantitatif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érences expérim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2160" y="150840"/>
            <a:ext cx="92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des effets des Q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80" y="63421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Kearsey et Farquhar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qtl2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35880" cy="5173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391520" y="1752480"/>
            <a:ext cx="7617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07240" y="14479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76 combinaisons expérience/caract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828800" y="1614600"/>
          <a:ext cx="4973760" cy="33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14600"/>
                    <a:ext cx="497376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696600" y="28789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équence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876920"/>
            <a:ext cx="53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centage de variance phénotypique expliq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248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Edwards et al, 1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17812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i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0159 x Tx303) 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50840"/>
            <a:ext cx="92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des effets des Q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5256360" y="4010040"/>
            <a:ext cx="3201840" cy="2774520"/>
            <a:chOff x="5256360" y="4010040"/>
            <a:chExt cx="3201840" cy="2774520"/>
          </a:xfrm>
        </p:grpSpPr>
        <p:grpSp>
          <p:nvGrpSpPr>
            <p:cNvPr id="113" name=""/>
            <p:cNvGrpSpPr/>
            <p:nvPr/>
          </p:nvGrpSpPr>
          <p:grpSpPr>
            <a:xfrm>
              <a:off x="5256360" y="4010040"/>
              <a:ext cx="3201840" cy="2774520"/>
              <a:chOff x="5256360" y="4010040"/>
              <a:chExt cx="3201840" cy="2774520"/>
            </a:xfrm>
          </p:grpSpPr>
          <p:pic>
            <p:nvPicPr>
              <p:cNvPr id="114" name="Fstat" descr=""/>
              <p:cNvPicPr/>
              <p:nvPr/>
            </p:nvPicPr>
            <p:blipFill>
              <a:blip r:embed="rId1"/>
              <a:stretch/>
            </p:blipFill>
            <p:spPr>
              <a:xfrm>
                <a:off x="5442120" y="4010040"/>
                <a:ext cx="3016080" cy="27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6090120" y="6477480"/>
                <a:ext cx="1762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atistique de test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6200000">
                <a:off x="4276440" y="5126760"/>
                <a:ext cx="226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(F) sous l’hypothèse nul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79160" y="5312160"/>
                <a:ext cx="153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uil de déci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781680" y="5586120"/>
                <a:ext cx="533520" cy="61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1320" y="4215600"/>
                <a:ext cx="91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421560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851440" y="4319640"/>
              <a:ext cx="854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s de QT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05720" y="435240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T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81480" y="1376280"/>
            <a:ext cx="3537000" cy="2451600"/>
            <a:chOff x="5181480" y="1376280"/>
            <a:chExt cx="3537000" cy="2451600"/>
          </a:xfrm>
        </p:grpSpPr>
        <p:graphicFrame>
          <p:nvGraphicFramePr>
            <p:cNvPr id="124" name=""/>
            <p:cNvGraphicFramePr/>
            <p:nvPr/>
          </p:nvGraphicFramePr>
          <p:xfrm>
            <a:off x="5564160" y="1600200"/>
            <a:ext cx="2558880" cy="18460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64160" y="1600200"/>
                      <a:ext cx="2558880" cy="184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6" name=""/>
            <p:cNvSpPr/>
            <p:nvPr/>
          </p:nvSpPr>
          <p:spPr>
            <a:xfrm rot="16200000">
              <a:off x="4230360" y="2327040"/>
              <a:ext cx="227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eur phénotyp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5960" y="342900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5960" y="342900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53600" y="342900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92760" y="26668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2760" y="2514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5080" y="2514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3480" y="236196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fr-FR" sz="20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383680" y="236196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59640" y="236196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76320"/>
            <a:ext cx="92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tribution  leptokurtique des effets des QTL : l’effet Be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556160"/>
            <a:ext cx="495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s QTL de faible effet ne sont pas détec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s effets des QTL détectés sont surestim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461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(Beavis, 1994; Bost et al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1528560"/>
            <a:ext cx="3541680" cy="2242080"/>
            <a:chOff x="685800" y="1528560"/>
            <a:chExt cx="3541680" cy="2242080"/>
          </a:xfrm>
        </p:grpSpPr>
        <p:graphicFrame>
          <p:nvGraphicFramePr>
            <p:cNvPr id="140" name=""/>
            <p:cNvGraphicFramePr/>
            <p:nvPr/>
          </p:nvGraphicFramePr>
          <p:xfrm>
            <a:off x="1073160" y="1630440"/>
            <a:ext cx="2558880" cy="18396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073160" y="1630440"/>
                      <a:ext cx="2558880" cy="183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 rot="16200000">
              <a:off x="-201600" y="2416320"/>
              <a:ext cx="214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Valeur génotyp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990880"/>
              <a:ext cx="2221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377720" y="2228400"/>
              <a:ext cx="2221200" cy="11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4880" y="22287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1000" y="2381040"/>
              <a:ext cx="546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3371760"/>
              <a:ext cx="49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48840" y="337176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18040" y="33717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0" y="7621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 fait des variations environnementales et de l’échantillonnage d’un nombre fini d’individus par popul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61880" y="1746360"/>
            <a:ext cx="4185000" cy="5339880"/>
            <a:chOff x="461880" y="1746360"/>
            <a:chExt cx="4185000" cy="5339880"/>
          </a:xfrm>
        </p:grpSpPr>
        <p:graphicFrame>
          <p:nvGraphicFramePr>
            <p:cNvPr id="152" name=""/>
            <p:cNvGraphicFramePr/>
            <p:nvPr/>
          </p:nvGraphicFramePr>
          <p:xfrm>
            <a:off x="3230640" y="1746360"/>
            <a:ext cx="1240200" cy="1130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30640" y="1746360"/>
                      <a:ext cx="1240200" cy="11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" name=""/>
            <p:cNvGraphicFramePr/>
            <p:nvPr/>
          </p:nvGraphicFramePr>
          <p:xfrm>
            <a:off x="3230640" y="3027240"/>
            <a:ext cx="1240200" cy="1130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30640" y="3027240"/>
                      <a:ext cx="1240200" cy="11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3230640" y="4308480"/>
            <a:ext cx="1240200" cy="11304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30640" y="4308480"/>
                      <a:ext cx="1240200" cy="113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8" name=""/>
            <p:cNvGraphicFramePr/>
            <p:nvPr/>
          </p:nvGraphicFramePr>
          <p:xfrm>
            <a:off x="3230640" y="5582160"/>
            <a:ext cx="1240200" cy="113004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30640" y="5582160"/>
                      <a:ext cx="1240200" cy="11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0" name=""/>
            <p:cNvGrpSpPr/>
            <p:nvPr/>
          </p:nvGrpSpPr>
          <p:grpSpPr>
            <a:xfrm>
              <a:off x="484200" y="4308480"/>
              <a:ext cx="1505880" cy="1130400"/>
              <a:chOff x="484200" y="4308480"/>
              <a:chExt cx="1505880" cy="1130400"/>
            </a:xfrm>
          </p:grpSpPr>
          <p:graphicFrame>
            <p:nvGraphicFramePr>
              <p:cNvPr id="161" name=""/>
              <p:cNvGraphicFramePr/>
              <p:nvPr/>
            </p:nvGraphicFramePr>
            <p:xfrm>
              <a:off x="749520" y="4308480"/>
              <a:ext cx="1240560" cy="1130400"/>
            </p:xfrm>
            <a:graphic>
              <a:graphicData uri="http://schemas.openxmlformats.org/presentationml/2006/ole">
                <p:oleObj progId="Excel.Sheet.12" r:id="rId9" spid="">
                  <p:embed/>
                  <p:pic>
                    <p:nvPicPr>
                      <p:cNvPr id="16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49520" y="4308480"/>
                        <a:ext cx="1240560" cy="113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3" name=""/>
              <p:cNvSpPr/>
              <p:nvPr/>
            </p:nvSpPr>
            <p:spPr>
              <a:xfrm rot="16200000">
                <a:off x="212760" y="4617360"/>
                <a:ext cx="83412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600" rIns="138600" tIns="69480" bIns="69480" anchor="t">
                <a:spAutoFit/>
              </a:bodyPr>
              <a:p>
                <a:pPr>
                  <a:tabLst>
                    <a:tab algn="l" pos="0"/>
                    <a:tab algn="l" pos="1387440"/>
                    <a:tab algn="l" pos="2774880"/>
                    <a:tab algn="l" pos="4162320"/>
                    <a:tab algn="l" pos="5549760"/>
                    <a:tab algn="l" pos="6937200"/>
                    <a:tab algn="l" pos="8325000"/>
                    <a:tab algn="l" pos="971244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369800" y="6842880"/>
              <a:ext cx="18432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2240" y="6840360"/>
              <a:ext cx="1843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81920" y="2786400"/>
              <a:ext cx="1382760" cy="215640"/>
              <a:chOff x="781920" y="2786400"/>
              <a:chExt cx="1382760" cy="215640"/>
            </a:xfrm>
          </p:grpSpPr>
          <p:sp>
            <p:nvSpPr>
              <p:cNvPr id="167" name=""/>
              <p:cNvSpPr/>
              <p:nvPr/>
            </p:nvSpPr>
            <p:spPr>
              <a:xfrm>
                <a:off x="78192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8316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7360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8024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7896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50680" y="278640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61880" y="1746360"/>
              <a:ext cx="1528200" cy="1130400"/>
              <a:chOff x="461880" y="1746360"/>
              <a:chExt cx="1528200" cy="1130400"/>
            </a:xfrm>
          </p:grpSpPr>
          <p:graphicFrame>
            <p:nvGraphicFramePr>
              <p:cNvPr id="174" name=""/>
              <p:cNvGraphicFramePr/>
              <p:nvPr/>
            </p:nvGraphicFramePr>
            <p:xfrm>
              <a:off x="749520" y="1746360"/>
              <a:ext cx="1240560" cy="1130400"/>
            </p:xfrm>
            <a:graphic>
              <a:graphicData uri="http://schemas.openxmlformats.org/presentationml/2006/ole">
                <p:oleObj progId="Excel.Sheet.12" r:id="rId11" spid="">
                  <p:embed/>
                  <p:pic>
                    <p:nvPicPr>
                      <p:cNvPr id="17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49520" y="1746360"/>
                        <a:ext cx="1240560" cy="113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6" name=""/>
              <p:cNvSpPr/>
              <p:nvPr/>
            </p:nvSpPr>
            <p:spPr>
              <a:xfrm rot="16200000">
                <a:off x="190440" y="2055240"/>
                <a:ext cx="83412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600" rIns="138600" tIns="69480" bIns="69480" anchor="t">
                <a:spAutoFit/>
              </a:bodyPr>
              <a:p>
                <a:pPr>
                  <a:tabLst>
                    <a:tab algn="l" pos="0"/>
                    <a:tab algn="l" pos="1387440"/>
                    <a:tab algn="l" pos="2774880"/>
                    <a:tab algn="l" pos="4162320"/>
                    <a:tab algn="l" pos="5549760"/>
                    <a:tab algn="l" pos="6937200"/>
                    <a:tab algn="l" pos="8325000"/>
                    <a:tab algn="l" pos="971244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3263760" y="2786400"/>
              <a:ext cx="1383120" cy="215640"/>
              <a:chOff x="3263760" y="2786400"/>
              <a:chExt cx="1383120" cy="215640"/>
            </a:xfrm>
          </p:grpSpPr>
          <p:sp>
            <p:nvSpPr>
              <p:cNvPr id="178" name=""/>
              <p:cNvSpPr/>
              <p:nvPr/>
            </p:nvSpPr>
            <p:spPr>
              <a:xfrm>
                <a:off x="326376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46500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5616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86208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060440" y="2786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32880" y="278640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83720" y="4067280"/>
              <a:ext cx="1382040" cy="215640"/>
              <a:chOff x="783720" y="4067280"/>
              <a:chExt cx="1382040" cy="215640"/>
            </a:xfrm>
          </p:grpSpPr>
          <p:sp>
            <p:nvSpPr>
              <p:cNvPr id="185" name=""/>
              <p:cNvSpPr/>
              <p:nvPr/>
            </p:nvSpPr>
            <p:spPr>
              <a:xfrm>
                <a:off x="78372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8424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17504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8132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8004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751760" y="406728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263760" y="4067280"/>
              <a:ext cx="1383120" cy="215640"/>
              <a:chOff x="3263760" y="4067280"/>
              <a:chExt cx="1383120" cy="215640"/>
            </a:xfrm>
          </p:grpSpPr>
          <p:sp>
            <p:nvSpPr>
              <p:cNvPr id="192" name=""/>
              <p:cNvSpPr/>
              <p:nvPr/>
            </p:nvSpPr>
            <p:spPr>
              <a:xfrm>
                <a:off x="326376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6500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65616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86208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60440" y="40672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32880" y="406728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83720" y="5349600"/>
              <a:ext cx="1382040" cy="215640"/>
              <a:chOff x="783720" y="5349600"/>
              <a:chExt cx="1382040" cy="215640"/>
            </a:xfrm>
          </p:grpSpPr>
          <p:sp>
            <p:nvSpPr>
              <p:cNvPr id="199" name=""/>
              <p:cNvSpPr/>
              <p:nvPr/>
            </p:nvSpPr>
            <p:spPr>
              <a:xfrm>
                <a:off x="783720" y="53496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84240" y="53496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75040" y="53496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381320" y="53496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580040" y="53496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51760" y="534960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263760" y="5356080"/>
              <a:ext cx="1383120" cy="215640"/>
              <a:chOff x="3263760" y="5356080"/>
              <a:chExt cx="1383120" cy="215640"/>
            </a:xfrm>
          </p:grpSpPr>
          <p:sp>
            <p:nvSpPr>
              <p:cNvPr id="206" name=""/>
              <p:cNvSpPr/>
              <p:nvPr/>
            </p:nvSpPr>
            <p:spPr>
              <a:xfrm>
                <a:off x="3263760" y="53560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465000" y="53560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656160" y="53560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862080" y="53560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60440" y="535608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32880" y="535608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83720" y="6629400"/>
              <a:ext cx="1382040" cy="215640"/>
              <a:chOff x="783720" y="6629400"/>
              <a:chExt cx="1382040" cy="215640"/>
            </a:xfrm>
          </p:grpSpPr>
          <p:sp>
            <p:nvSpPr>
              <p:cNvPr id="213" name=""/>
              <p:cNvSpPr/>
              <p:nvPr/>
            </p:nvSpPr>
            <p:spPr>
              <a:xfrm>
                <a:off x="78372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8424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7504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8132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8004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751760" y="662940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263760" y="6629400"/>
              <a:ext cx="1383120" cy="215640"/>
              <a:chOff x="3263760" y="6629400"/>
              <a:chExt cx="1383120" cy="215640"/>
            </a:xfrm>
          </p:grpSpPr>
          <p:sp>
            <p:nvSpPr>
              <p:cNvPr id="220" name=""/>
              <p:cNvSpPr/>
              <p:nvPr/>
            </p:nvSpPr>
            <p:spPr>
              <a:xfrm>
                <a:off x="326376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6500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5616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6208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6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060440" y="6629400"/>
                <a:ext cx="357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8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232880" y="6629400"/>
                <a:ext cx="414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 %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84200" y="3027240"/>
              <a:ext cx="1505880" cy="1130400"/>
              <a:chOff x="484200" y="3027240"/>
              <a:chExt cx="1505880" cy="113040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749520" y="3027240"/>
              <a:ext cx="1240560" cy="1130400"/>
            </p:xfrm>
            <a:graphic>
              <a:graphicData uri="http://schemas.openxmlformats.org/presentationml/2006/ole">
                <p:oleObj progId="Excel.Sheet.12" r:id="rId13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749520" y="3027240"/>
                        <a:ext cx="1240560" cy="113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9" name=""/>
              <p:cNvSpPr/>
              <p:nvPr/>
            </p:nvSpPr>
            <p:spPr>
              <a:xfrm rot="16200000">
                <a:off x="212760" y="3333600"/>
                <a:ext cx="83412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600" rIns="138600" tIns="69480" bIns="69480" anchor="t">
                <a:spAutoFit/>
              </a:bodyPr>
              <a:p>
                <a:pPr>
                  <a:tabLst>
                    <a:tab algn="l" pos="0"/>
                    <a:tab algn="l" pos="1387440"/>
                    <a:tab algn="l" pos="2774880"/>
                    <a:tab algn="l" pos="4162320"/>
                    <a:tab algn="l" pos="5549760"/>
                    <a:tab algn="l" pos="6937200"/>
                    <a:tab algn="l" pos="8325000"/>
                    <a:tab algn="l" pos="971244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84200" y="5589360"/>
              <a:ext cx="1505880" cy="1130400"/>
              <a:chOff x="484200" y="5589360"/>
              <a:chExt cx="1505880" cy="1130400"/>
            </a:xfrm>
          </p:grpSpPr>
          <p:graphicFrame>
            <p:nvGraphicFramePr>
              <p:cNvPr id="231" name=""/>
              <p:cNvGraphicFramePr/>
              <p:nvPr/>
            </p:nvGraphicFramePr>
            <p:xfrm>
              <a:off x="749520" y="5589360"/>
              <a:ext cx="1240560" cy="1130400"/>
            </p:xfrm>
            <a:graphic>
              <a:graphicData uri="http://schemas.openxmlformats.org/presentationml/2006/ole">
                <p:oleObj progId="Excel.Sheet.12" r:id="rId15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49520" y="5589360"/>
                        <a:ext cx="1240560" cy="113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3" name=""/>
              <p:cNvSpPr/>
              <p:nvPr/>
            </p:nvSpPr>
            <p:spPr>
              <a:xfrm rot="16200000">
                <a:off x="212760" y="5898240"/>
                <a:ext cx="834120" cy="2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38600" rIns="138600" tIns="69480" bIns="69480" anchor="t">
                <a:spAutoFit/>
              </a:bodyPr>
              <a:p>
                <a:pPr>
                  <a:tabLst>
                    <a:tab algn="l" pos="0"/>
                    <a:tab algn="l" pos="1387440"/>
                    <a:tab algn="l" pos="2774880"/>
                    <a:tab algn="l" pos="4162320"/>
                    <a:tab algn="l" pos="5549760"/>
                    <a:tab algn="l" pos="6937200"/>
                    <a:tab algn="l" pos="8325000"/>
                    <a:tab algn="l" pos="971244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911760" y="185940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Consta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24880" y="185940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Consta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3880" y="31402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69160" y="31402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Norm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94040" y="44215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Exponen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12200" y="4421520"/>
              <a:ext cx="75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Exponenti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42720" y="570384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Unif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9000" y="570384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Unif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203040" y="1206360"/>
            <a:ext cx="19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ts vrais (r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52960" y="1233360"/>
            <a:ext cx="22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ts estimés (R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12920" y="2227320"/>
            <a:ext cx="811440" cy="314280"/>
          </a:xfrm>
          <a:prstGeom prst="rightArrow">
            <a:avLst>
              <a:gd name="adj1" fmla="val 50000"/>
              <a:gd name="adj2" fmla="val 645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11480" y="3459240"/>
            <a:ext cx="811080" cy="314280"/>
          </a:xfrm>
          <a:prstGeom prst="rightArrow">
            <a:avLst>
              <a:gd name="adj1" fmla="val 50000"/>
              <a:gd name="adj2" fmla="val 645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11480" y="6021360"/>
            <a:ext cx="811080" cy="314280"/>
          </a:xfrm>
          <a:prstGeom prst="rightArrow">
            <a:avLst>
              <a:gd name="adj1" fmla="val 50000"/>
              <a:gd name="adj2" fmla="val 645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211480" y="4740120"/>
            <a:ext cx="811080" cy="314640"/>
          </a:xfrm>
          <a:prstGeom prst="rightArrow">
            <a:avLst>
              <a:gd name="adj1" fmla="val 50000"/>
              <a:gd name="adj2" fmla="val 644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12920" y="1233360"/>
            <a:ext cx="811440" cy="314280"/>
          </a:xfrm>
          <a:prstGeom prst="rightArrow">
            <a:avLst>
              <a:gd name="adj1" fmla="val 50000"/>
              <a:gd name="adj2" fmla="val 645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12320" y="90648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2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tribution  leptokurtique des effets des Q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55200" y="425520"/>
            <a:ext cx="60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Comic Sans MS"/>
              </a:rPr>
              <a:t>Bost, de Vienne, Hospital, Moreau &amp; Dillmann, Genetics</a:t>
            </a:r>
            <a:r>
              <a:rPr b="0" i="1" lang="fr-FR" sz="1600" spc="-1" strike="noStrike">
                <a:solidFill>
                  <a:srgbClr val="808080"/>
                </a:solidFill>
                <a:latin typeface="Comic Sans MS"/>
              </a:rPr>
              <a:t>, </a:t>
            </a:r>
            <a:r>
              <a:rPr b="0" lang="fr-FR" sz="1600" spc="-1" strike="noStrike">
                <a:solidFill>
                  <a:srgbClr val="808080"/>
                </a:solidFill>
                <a:latin typeface="Comic Sans MS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10360" y="228744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ais dès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3506760"/>
            <a:ext cx="3429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ille population fi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ets environnemen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Déséquilibre de li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522600"/>
            <a:ext cx="152280" cy="1279440"/>
          </a:xfrm>
          <a:custGeom>
            <a:avLst/>
            <a:gdLst>
              <a:gd name="textAreaLeft" fmla="*/ 97200 w 152280"/>
              <a:gd name="textAreaRight" fmla="*/ 152640 w 15228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71160" y="38926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150840"/>
            <a:ext cx="92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que nous apprennent les expériences de détection de QTL : 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108000" y="2209680"/>
            <a:ext cx="92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les ne nous apprennent pas grand chose, ni sur leur nombre, ni sur la distribution de leurs ef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108000" y="3505320"/>
            <a:ext cx="92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imite de résolution = un intervalle entre deux marque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Un intervalle peut contenir plusieurs QTL associés en coupling ou en répul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redden" descr=""/>
          <p:cNvPicPr/>
          <p:nvPr/>
        </p:nvPicPr>
        <p:blipFill>
          <a:blip r:embed="rId1"/>
          <a:stretch/>
        </p:blipFill>
        <p:spPr>
          <a:xfrm>
            <a:off x="76320" y="158760"/>
            <a:ext cx="8993160" cy="6249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960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terminisme génétique de la date d’épiaison chez le b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19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s caractères quantitatifs sont gouvernés par de nombreux gènes avec des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2286000"/>
            <a:ext cx="22860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0840"/>
            <a:ext cx="92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e gèn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teurs génétiq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qui déterminent la variation d’un caractère quantit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FACTEURS1" descr=""/>
          <p:cNvPicPr/>
          <p:nvPr/>
        </p:nvPicPr>
        <p:blipFill>
          <a:blip r:embed="rId1"/>
          <a:stretch/>
        </p:blipFill>
        <p:spPr>
          <a:xfrm>
            <a:off x="1832040" y="1143000"/>
            <a:ext cx="5479920" cy="4370400"/>
          </a:xfrm>
          <a:prstGeom prst="rect">
            <a:avLst/>
          </a:prstGeom>
          <a:ln w="0">
            <a:noFill/>
          </a:ln>
        </p:spPr>
      </p:pic>
      <p:pic>
        <p:nvPicPr>
          <p:cNvPr id="48" name="FACTEURS2" descr=""/>
          <p:cNvPicPr/>
          <p:nvPr/>
        </p:nvPicPr>
        <p:blipFill>
          <a:blip r:embed="rId2"/>
          <a:stretch/>
        </p:blipFill>
        <p:spPr>
          <a:xfrm>
            <a:off x="1828800" y="5595840"/>
            <a:ext cx="52736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36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détection de QT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 qu’elle nous apprend sur le déterminisme géné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 caractè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dv1" descr=""/>
          <p:cNvPicPr/>
          <p:nvPr/>
        </p:nvPicPr>
        <p:blipFill>
          <a:blip r:embed="rId1"/>
          <a:stretch/>
        </p:blipFill>
        <p:spPr>
          <a:xfrm>
            <a:off x="0" y="3505320"/>
            <a:ext cx="2984400" cy="2374920"/>
          </a:xfrm>
          <a:prstGeom prst="rect">
            <a:avLst/>
          </a:prstGeom>
          <a:ln w="0">
            <a:noFill/>
          </a:ln>
        </p:spPr>
      </p:pic>
      <p:pic>
        <p:nvPicPr>
          <p:cNvPr id="51" name="ddv0" descr=""/>
          <p:cNvPicPr/>
          <p:nvPr/>
        </p:nvPicPr>
        <p:blipFill>
          <a:blip r:embed="rId2"/>
          <a:stretch/>
        </p:blipFill>
        <p:spPr>
          <a:xfrm>
            <a:off x="490680" y="1208160"/>
            <a:ext cx="2100240" cy="2373120"/>
          </a:xfrm>
          <a:prstGeom prst="rect">
            <a:avLst/>
          </a:prstGeom>
          <a:ln w="0">
            <a:noFill/>
          </a:ln>
        </p:spPr>
      </p:pic>
      <p:pic>
        <p:nvPicPr>
          <p:cNvPr id="52" name="ddv2" descr=""/>
          <p:cNvPicPr/>
          <p:nvPr/>
        </p:nvPicPr>
        <p:blipFill>
          <a:blip r:embed="rId3"/>
          <a:stretch/>
        </p:blipFill>
        <p:spPr>
          <a:xfrm>
            <a:off x="3400560" y="3746520"/>
            <a:ext cx="234144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ddv3" descr=""/>
          <p:cNvPicPr/>
          <p:nvPr/>
        </p:nvPicPr>
        <p:blipFill>
          <a:blip r:embed="rId4"/>
          <a:stretch/>
        </p:blipFill>
        <p:spPr>
          <a:xfrm>
            <a:off x="6550200" y="3746520"/>
            <a:ext cx="2441520" cy="2136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34920" y="1192320"/>
            <a:ext cx="479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1192320"/>
            <a:ext cx="479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73000" y="1190520"/>
            <a:ext cx="479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09840" y="1508040"/>
            <a:ext cx="53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r le polymorphisme des marqu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 variations d’un caractère quantitatif, chez les descendants de parents de génotype connu (D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2057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80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e corrélation entre la dose d’allèles M2 et la valeur du caractère indique l’existence d’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u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QTL du caractère au voisinage du marqu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5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rincipe de la détection de Q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335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(D. de Vienne « Les marqueurs moléculaires en génétique », 19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3280" y="502920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 de Q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68520" y="32907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ison des moyennes des gé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3120" y="28954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0292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Q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50292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 QT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qtl1" descr=""/>
          <p:cNvPicPr/>
          <p:nvPr/>
        </p:nvPicPr>
        <p:blipFill>
          <a:blip r:embed="rId1"/>
          <a:stretch/>
        </p:blipFill>
        <p:spPr>
          <a:xfrm>
            <a:off x="92160" y="622440"/>
            <a:ext cx="9153360" cy="6235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2160" y="150840"/>
            <a:ext cx="92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du nombre de QTL détectés dans un cro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80" y="6342120"/>
            <a:ext cx="33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Kearsey et Farquhar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75360" y="243828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76 combinaisons expérience/caract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3048120"/>
            <a:ext cx="49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 QTL détectés en moyenne dans un croisement pour un caractè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45440" y="1752480"/>
            <a:ext cx="7621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27160" y="1868400"/>
            <a:ext cx="66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nombre de QTL que l’on peut détecter dans une population est limité par la taille de la population (puiss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Hyne &amp; Kearsey (19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50840"/>
            <a:ext cx="92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e QTL à l’intérieur d’un segment chromos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880" y="53352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Eshed et Zamir, 1995,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200" y="914400"/>
            <a:ext cx="893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1 QT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ids du fruit chez la tomate (L. . pennelli  x L. esculentum) détecté sur un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segment d’environ 30 c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u chromosome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éation de lignées d’introgressions (congen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rtographie fine des lignées d’introgression et réé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eshed" descr=""/>
          <p:cNvPicPr/>
          <p:nvPr/>
        </p:nvPicPr>
        <p:blipFill>
          <a:blip r:embed="rId1"/>
          <a:stretch/>
        </p:blipFill>
        <p:spPr>
          <a:xfrm>
            <a:off x="1066680" y="3657600"/>
            <a:ext cx="31608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084280" y="4071960"/>
            <a:ext cx="3845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3 QT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 poids du fr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2 QT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de rendement en ke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Interactions épistat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« moins qu’additiv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ff"/>
                </a:solidFill>
                <a:latin typeface="Arial"/>
              </a:rPr>
              <a:t>Allèles en répul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838080"/>
            <a:ext cx="2743200" cy="2209680"/>
            <a:chOff x="0" y="838080"/>
            <a:chExt cx="2743200" cy="2209680"/>
          </a:xfrm>
        </p:grpSpPr>
        <p:sp>
          <p:nvSpPr>
            <p:cNvPr id="83" name=""/>
            <p:cNvSpPr/>
            <p:nvPr/>
          </p:nvSpPr>
          <p:spPr>
            <a:xfrm>
              <a:off x="0" y="838080"/>
              <a:ext cx="2666880" cy="22096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457200" y="1431720"/>
              <a:ext cx="180036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838080"/>
              <a:ext cx="274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2 lignées d’introgression dans un fond génétique Nip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240" y="2574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Hd3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6840" y="25747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cc"/>
                  </a:solidFill>
                  <a:latin typeface="Arial"/>
                </a:rPr>
                <a:t>Hd3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87600" y="25747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Nip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887920" y="1219320"/>
            <a:ext cx="631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te de floraison chez le 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oisement Kasalah (japonica) x Nipponbare (ind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gnées d’introgression, puis croi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d3a x Nipb et Hd3b x Ni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KK)    (NN)     (KK)    (N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152280" y="58672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Conditions naturelle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d3b est un QTL de la date de flor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5867280"/>
            <a:ext cx="518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Jours court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d3a et Hd3b sont des QTL de la date de flor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Les allèles sont associés en répulsion chez les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74760" y="76212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Comic Sans MS"/>
              </a:rPr>
              <a:t>Monna et al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320"/>
            <a:ext cx="91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bre de QTL dans un segment chromoso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3127320"/>
          <a:ext cx="3630600" cy="273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3127320"/>
                    <a:ext cx="363060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419720" y="3246480"/>
          <a:ext cx="3655800" cy="2620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3246480"/>
                    <a:ext cx="365580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1600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77400" y="175248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00:57:28Z</dcterms:created>
  <dc:creator>christine</dc:creator>
  <dc:description/>
  <dc:language>en-US</dc:language>
  <cp:lastModifiedBy>Christine Dillmann</cp:lastModifiedBy>
  <dcterms:modified xsi:type="dcterms:W3CDTF">2002-07-04T13:27:54Z</dcterms:modified>
  <cp:revision>60</cp:revision>
  <dc:subject/>
  <dc:title>Présentation PowerPoint</dc:title>
</cp:coreProperties>
</file>