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3589-A7D1-4560-B716-BD9EAF2F1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FB31-3FBF-4BA8-9F44-C67BEA5A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91D6-1F5C-4355-8D54-DADF897AE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318C-C67F-43B8-8F9E-399A6EF76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AB3B-6493-4FF3-8703-1CF07E7B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452F-70DB-47E2-B65F-2870C344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2143-6FBD-4A35-945E-7DE99349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46D6-C903-496C-9A82-3DD204B8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BC58-8560-46B8-B48C-D681DB75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0372-6B80-4E0E-92ED-2FBFEF94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8768-C3CA-4CC8-AEB0-6A7EE829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1704-4A25-40FB-9692-9FD0B24B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0FEA-4024-4017-9510-D3DCDA4629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92160" y="39600"/>
            <a:ext cx="923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terminisme génétique de la sensibilité à la photopériode chez l’o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7080" y="762120"/>
            <a:ext cx="28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Comic Sans MS"/>
              </a:rPr>
              <a:t>Strake et Börner, 19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3735360" cy="3929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038480" y="2252520"/>
            <a:ext cx="4800600" cy="3043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929480" y="1851120"/>
            <a:ext cx="31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opulation F2 Atsel x Betz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6440" y="5837400"/>
            <a:ext cx="76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 sensibilité à la photopériode est gouvernée par un gène maj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9600"/>
            <a:ext cx="923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 génétique des populati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7524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tudie l’effet des pressions évolutives (dérive génétique, sélection, mutation, migration) sur la composition génétique des pop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èles limités à un ou deux l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le" descr=""/>
          <p:cNvPicPr/>
          <p:nvPr/>
        </p:nvPicPr>
        <p:blipFill>
          <a:blip r:embed="rId1"/>
          <a:stretch/>
        </p:blipFill>
        <p:spPr>
          <a:xfrm>
            <a:off x="2971800" y="3492360"/>
            <a:ext cx="3289320" cy="3289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76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les de caractères quantitat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ail" descr=""/>
          <p:cNvPicPr/>
          <p:nvPr/>
        </p:nvPicPr>
        <p:blipFill>
          <a:blip r:embed="rId2"/>
          <a:stretch/>
        </p:blipFill>
        <p:spPr>
          <a:xfrm>
            <a:off x="76320" y="762120"/>
            <a:ext cx="3289320" cy="3289320"/>
          </a:xfrm>
          <a:prstGeom prst="rect">
            <a:avLst/>
          </a:prstGeom>
          <a:ln w="0">
            <a:noFill/>
          </a:ln>
        </p:spPr>
      </p:pic>
      <p:pic>
        <p:nvPicPr>
          <p:cNvPr id="52" name="flo" descr=""/>
          <p:cNvPicPr/>
          <p:nvPr/>
        </p:nvPicPr>
        <p:blipFill>
          <a:blip r:embed="rId3"/>
          <a:stretch/>
        </p:blipFill>
        <p:spPr>
          <a:xfrm>
            <a:off x="5791320" y="838080"/>
            <a:ext cx="328932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8600"/>
            <a:ext cx="923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génétique quantitative, on cherche à établir des modèles génétiques permettant de prédire l’évolution des caractères quantitati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3623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t des pressions évolutives s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33cc33"/>
                </a:solidFill>
                <a:latin typeface="Arial"/>
              </a:rPr>
              <a:t>L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33cc33"/>
                </a:solidFill>
                <a:latin typeface="Arial"/>
              </a:rPr>
              <a:t>variabilité phénotyp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 déterminisme génétique des caractè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cc33"/>
                </a:solidFill>
                <a:latin typeface="Arial"/>
              </a:rPr>
              <a:t>Nombre de gè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cc33"/>
                </a:solidFill>
                <a:latin typeface="Arial"/>
              </a:rPr>
              <a:t>Répartition dans le gén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cc33"/>
                </a:solidFill>
                <a:latin typeface="Arial"/>
              </a:rPr>
              <a:t>Effets des gè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3176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Les gènes sont des entités codant pour une fonction, transmissibles au cours des générations, séparés les uns des autres par la recombinaison, lors de la reproduction sexu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’est-ce qu’un gèn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1656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ésentation immatérielle, liée au phénotype, qui permet de faire des calculs sur l’héréd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8T15:27:54Z</dcterms:created>
  <dc:creator>fred</dc:creator>
  <dc:description/>
  <dc:language>en-US</dc:language>
  <cp:lastModifiedBy>fred</cp:lastModifiedBy>
  <dcterms:modified xsi:type="dcterms:W3CDTF">2002-06-29T01:00:17Z</dcterms:modified>
  <cp:revision>8</cp:revision>
  <dc:subject/>
  <dc:title>Présentation PowerPoint</dc:title>
</cp:coreProperties>
</file>